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BB8-AB67-41A6-90BE-176292CA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A31-A3FA-4D3C-9FD8-529968EC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9AE-2227-4BB7-96A1-D4CC5B18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35F-0B6A-4578-A956-A1C214E4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7A7-53C4-475B-BEF9-0F6A546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D7E2A-9CCE-4BFE-89E9-7E9494DF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473CD-5A8A-4B17-8703-54E870C4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70C18-40B0-46FB-99B7-AAC72E21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13B64-CE7C-482C-97FD-239E030F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7FAA2-7AA9-4464-885F-BB5008F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130-747D-43CB-BA16-8C2F7B52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CC12F-7107-4A82-8225-8902C57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05E8C-540F-478C-9BE7-E4F59E8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186D9-0B3F-4986-9463-6C140E8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B091A-4CF6-414C-AE78-68D3FDD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3EDC3-D216-4CC2-8C71-7800DB6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7325B-213A-4991-B57B-0A8F9A88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8890A-E279-4462-B934-AFE48D97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6D2-41FE-4075-ACAB-6004DFE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1E368-6448-491D-A80C-F27DA69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039-52A2-48A4-B821-067425CF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87D36-BFFD-41A5-B73F-37E6B654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3F22E-DC2F-4577-955C-452926D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D962D-AE94-4467-ADBE-B3EDFD0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49192-8203-4EAD-8421-F1D0C182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A01E9-FD82-4638-B867-2BA31297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C5D96-8BAF-4220-B686-F708675C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CAA47-DF12-47A2-921F-B380928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00E4C-E7F1-475A-9454-393431E2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C2E66-0A48-41A7-9D2E-E4BC443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FF261-E21A-4C10-B339-E76B96FD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F7A-AB70-4734-B8D5-4EB1DCFF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C823B-7904-488A-B3F9-91D1220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90325-D3AB-402C-A8DC-22B5D8AA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4BA48-B46E-4E68-8DA7-0DD56B03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AB9C3-6F76-4680-9669-4A3B375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ECD88-43F2-4506-9BB9-626AA3C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4B223-156C-42EA-8AD3-5A07382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26752-62D7-41B2-AD2F-6E7ED78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6C8C3-30C3-4BA1-9F5B-8B72EE4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60C56-535E-4849-8F61-CC70FC5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FC217-7BD9-44AC-94A3-C962B19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EF8-33ED-46D2-B0DD-ACD0FE3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F525D-AA88-40FE-8979-F0550CD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CBB6B-17D5-4F0A-973C-552B049A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1CB4E-22BA-4608-AF2F-C3F2E507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4B0-AE4B-45BD-BD92-83356F6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5A8-0F0F-4C66-9DCB-E3F4010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2092-CFDC-4599-A837-8978163D044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464E-90A0-469F-AC6A-0B5398BE46AF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60E-A86B-437C-ACA6-5E4252E1D2B1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2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A217-4581-44AA-B90C-F48BC00E5B5F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314172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 Universi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Economic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Science and Technolog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Art and Desig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late user guide (200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mplate selec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emplates for each school in Finnish, Swedish, and English (templates for School of Economics are only in Finnish and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template from Visual Identity Downloads and save it on your ow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a template. This initiates a new presentation, and you can start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F7B-7225-4B37-AED4-12FF6C0FEF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reating a new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 by using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ayout from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847880" cy="45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7BE-60D9-467F-8AEA-B5A64E1FAB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itle and text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have five indenta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can be changed by using PowerPoint's Decrease Indent and Increase Indent buttons (1). Also, the TAB key and Shift+TAB combination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8099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FEC-97EF-4DAE-BF1F-0EF31AE644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titl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presentation has three different title slides. To see how a different title slide is inserted, see the next page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2E037-15A5-4D1B-AB6D-0D5900D524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serting a different titl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270080"/>
            <a:ext cx="45766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 new slide by clicking the New Slide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slide's layout to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Slide Design Task Pan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sk Pane's Used in This Presentation section displays thumbnails of the templates (master slides) that can be used in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you move the mouse pointer on a template, a yellow tooltip shows i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s are aalto, white title, and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right of the thumbnail, there's a small arrow pointing down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little arrow on the right edge of the thumbnail and select Apply to Selected Slide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If you just click the thumbnail itself, the slide master it refers to is applied to the entir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49800" y="404640"/>
            <a:ext cx="3886200" cy="53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F3238-A70D-424C-A02E-56A098AE64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Footer inform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er information can be edited by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ate is displayed on the titl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3933720" cy="29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F4843-F993-4A2E-B4BD-5CC7F142F7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olors in a present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 dictated by the graphics guidelines of Aalto University and its schools have been predefined as default colors for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efinitions have effect, for example, on the colors of charts and self-drawn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0400" y="1582560"/>
          <a:ext cx="391608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608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1971720" cy="6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4F8E8-CDF0-4100-B12E-C0EFC74D4F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1:37:19Z</dcterms:created>
  <dc:creator>Tieturi</dc:creator>
  <dc:description/>
  <dc:language>en-US</dc:language>
  <cp:lastModifiedBy>Tieturi</cp:lastModifiedBy>
  <dcterms:modified xsi:type="dcterms:W3CDTF">2010-02-19T12:26:10Z</dcterms:modified>
  <cp:revision>3</cp:revision>
  <dc:subject/>
  <dc:title>PowerPoint Template user guide (200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1</vt:lpwstr>
  </property>
</Properties>
</file>