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86C-283B-44DA-87E8-1E14FD5A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D28-F4A7-46AE-8407-A2298DCF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C1E-F4D0-4D38-98EB-1C7556EE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902-1D18-4109-B1BB-53BF2705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0C3-E5F8-4967-A3B7-3753A455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4989F-C95F-4BB9-9AD1-D4F46A5A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ABF31-348E-4B33-B355-429C7734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C1EDD-F63B-4AC2-A339-B5152F3C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4E176-408E-40E8-9A6D-17BFB786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932838-537E-4451-854F-6B2DEF86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C2A-ADC3-4B45-8D16-FB4E2B78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F9C6D-A91B-4EFE-9CCC-5E4F49A6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7C98E-51AB-4E0A-A3D1-E1DCBB39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8CDB2-49D3-40CB-A2EC-1291D7C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47205-ED28-483A-AA53-13234D83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43043-C430-4C5A-A65A-5194172A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71077-1A28-42B2-B61F-1DDE7F41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6DDB9B-3F7D-4784-BE82-A9B0FC03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DCC-A588-48D9-9E70-5EE7DD16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DB780-020C-4BDA-A2AA-EFEC304C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4E4-7E72-4CBD-A191-22E09F9B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3C14A-4CB6-41F5-946F-7979CD42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2E77C-CB2E-4D45-B5C7-B001CDBB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D127D-E4FB-4713-91EF-6E5BE64A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70DB4-CB29-4530-8667-83B33A3A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433BE-F00B-4224-8C0F-6E2A9D2E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96E1E-A5AA-4230-934C-AEDD2F3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C5EDE-D492-43C3-9F8E-9CEE791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A25C9-AD75-4C47-9614-568BD2C1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09E14-48B8-4AB3-9D6D-B84C78A4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27695-B64B-494E-B54D-D9388793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2D1-DA57-4AA8-83D2-C664F084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5373F-EE0C-4612-80E9-5E77E1EE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91844-467B-4C5F-86FE-E08488B5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BBCFD-56CE-4A4F-B6B5-CD627227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B9F3C-7C12-4405-8066-A5059E04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5062B-E6BB-46F9-BC35-14D46FB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F2A69-3E4E-48DA-98C0-FBCC15B3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8904E-10B6-4F7B-B80D-98477B8A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4E96A-129B-462C-A1F0-96D7194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C53DD-D33E-40FE-BC8C-D9B4DC5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5D9E6-069A-494D-AFC5-87D26EDB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43B-5C41-46B3-B193-8187824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79682-460F-45A5-8713-AD0B06B1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C4ACA-EF09-4878-903B-C77D0DCF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ADCB3-CD3B-4696-BCCD-8B989A50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DA5-83D5-4D07-96EF-B27CB9C0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94E-2550-4393-93F9-8D379B4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9000" y="6272280"/>
            <a:ext cx="154296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6141600"/>
            <a:ext cx="154296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9000" y="6397200"/>
            <a:ext cx="154296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20BC1-8B5B-4EA3-842B-05528F010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440" y="1712880"/>
            <a:ext cx="8324640" cy="391968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1769760"/>
            <a:ext cx="7767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860200" y="5959080"/>
            <a:ext cx="20242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F2D6F-6339-4C58-ADC7-63BA75826AB7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1769760"/>
            <a:ext cx="7767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2860200" y="5959080"/>
            <a:ext cx="20242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08DC0-4371-470C-9513-BBB275D167DB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6440" y="406440"/>
            <a:ext cx="8324640" cy="54705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545760"/>
            <a:ext cx="77673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dt" idx="12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3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4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5F58B-683F-48C0-80B6-F8081D933399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320" y="1769760"/>
            <a:ext cx="77691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llipohjan käyttöohje (2003)</a:t>
            </a:r>
            <a:endParaRPr b="1" lang="en-US" sz="40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71320" y="3139560"/>
            <a:ext cx="628308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alto-yliopist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Kauppa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eknillinen 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aideteollinen 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Mallin valint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eja on jokaiselle korkeakoululle suomeksi, ruotsiksi ja englanniksi (paitsi Kauppakorkeakoululle vain suomeksi ja englannik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taa malli materiaalipankista ja tallenna se omalle koneelle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ksoisnapsauta mallia, jolloin aukeaa uusi esitys, ja aloita kirjoittami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40C-6E7D-4FBF-AA7E-ECEB599CA6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Uuden dian luominen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 uusi dia käyttäen </a:t>
            </a:r>
            <a:br>
              <a:rPr sz="2400"/>
            </a:b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-painiket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itse dialle rakenne</a:t>
            </a:r>
            <a:br>
              <a:rPr sz="2400"/>
            </a:b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lide Layo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-tehtäväruud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940360" y="981000"/>
            <a:ext cx="182880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2BB-003E-441D-90A2-D6C35D26CD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i-FI" sz="3200" spc="-1" strike="noStrike">
                <a:solidFill>
                  <a:srgbClr val="009b3a"/>
                </a:solidFill>
                <a:latin typeface="Arial"/>
              </a:rPr>
              <a:t>Luettelotekstidi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tteloteksteissä on viisi tas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as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s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so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oa voit vaihtaa käyttämällä PowerPointin Decrease Indent- ja Increase Indent -painikkeita (1). Tai tabulaattorinäppäintä ja SHIFT+tabulaattorinäppäin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571920" y="2421000"/>
            <a:ext cx="4786200" cy="1131840"/>
            <a:chOff x="3571920" y="2421000"/>
            <a:chExt cx="4786200" cy="113184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3571920" y="2421000"/>
              <a:ext cx="4786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338960" y="31845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115-949B-41DE-912E-8DFD5414A4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äliotsikkodi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71320" y="285264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sityksessä on kolme erilaista otsikkodiaa. Katso erilaisen otsikkodian lisäysohje seuraavalta sivult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21F46-185A-40B8-9128-36CD0E9A96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Erilaisen otsikkodian lisäys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680" y="1196640"/>
            <a:ext cx="5008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isää uusi dia napsauttamalla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-painike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hda dian rakenteeksi Title Slid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hda näkyville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lide Design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-tehtäväruutu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htäväruudussa kohdassa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sed in This Presentation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näkyy pikkukuvakkeina esityksessä käytettävissä olevat templatet (master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un viet hiiren templaten päälle, näkyy templaten nimi keltaisessa vihjelapu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aihtoehdot ovat aalto, white title ja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ikkukuvan oikeassa reunassa näkyy alaspäin osoittava väkä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Napsauta pikkukuvan oikeassa reunassa olevaa väkästä ja valitse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Apply to Selected Slide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uom. Mikäli vain napsautat Slide Design -tehtäväruudussa  näkyvää pikkukuvaa, tulee siinä oleva master käyttöön koko esityks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508720" y="1154160"/>
            <a:ext cx="158436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508720" y="2451240"/>
            <a:ext cx="1603440" cy="1873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508720" y="4538520"/>
            <a:ext cx="1584360" cy="11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220760" cy="1976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7380360" y="2421000"/>
            <a:ext cx="1466640" cy="1809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7380360" y="4365720"/>
            <a:ext cx="1763640" cy="1326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071040" y="2975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13960" y="157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87040" y="3808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27800" y="2954160"/>
            <a:ext cx="936360" cy="57636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80360" y="1628640"/>
            <a:ext cx="1079280" cy="28764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1640" y="3789360"/>
            <a:ext cx="1081080" cy="50328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68" idx="1"/>
            <a:endCxn id="269" idx="1"/>
          </p:cNvCxnSpPr>
          <p:nvPr/>
        </p:nvCxnSpPr>
        <p:spPr>
          <a:xfrm>
            <a:off x="5508720" y="115920"/>
            <a:ext cx="2160" cy="1637280"/>
          </a:xfrm>
          <a:prstGeom prst="curvedConnector5">
            <a:avLst>
              <a:gd name="adj1" fmla="val 40000"/>
              <a:gd name="adj2" fmla="val 49989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9" idx="1"/>
            <a:endCxn id="270" idx="1"/>
          </p:cNvCxnSpPr>
          <p:nvPr/>
        </p:nvCxnSpPr>
        <p:spPr>
          <a:xfrm>
            <a:off x="5508720" y="1638000"/>
            <a:ext cx="2160" cy="174996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0" idx="3"/>
            <a:endCxn id="278" idx="1"/>
          </p:cNvCxnSpPr>
          <p:nvPr/>
        </p:nvCxnSpPr>
        <p:spPr>
          <a:xfrm flipV="1">
            <a:off x="7093080" y="1771200"/>
            <a:ext cx="288000" cy="3364560"/>
          </a:xfrm>
          <a:prstGeom prst="curvedConnector5">
            <a:avLst>
              <a:gd name="adj1" fmla="val 49937"/>
              <a:gd name="adj2" fmla="val 49994"/>
              <a:gd name="adj3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8" idx="3"/>
            <a:endCxn id="272" idx="3"/>
          </p:cNvCxnSpPr>
          <p:nvPr/>
        </p:nvCxnSpPr>
        <p:spPr>
          <a:xfrm>
            <a:off x="8459640" y="1771200"/>
            <a:ext cx="388080" cy="155484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2" idx="3"/>
            <a:endCxn id="273" idx="0"/>
          </p:cNvCxnSpPr>
          <p:nvPr/>
        </p:nvCxnSpPr>
        <p:spPr>
          <a:xfrm flipV="1" rot="10800000">
            <a:off x="8260560" y="3325320"/>
            <a:ext cx="585000" cy="104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EC8-294E-4ED7-865E-2248FD8D59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Alatunnisteen tiedo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latunnisteen tietoja pääset vaihtamaan valitsemalla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View - Header and Footer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tsikkosivulla näytetään vain päivämäär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40400" y="1628640"/>
            <a:ext cx="391608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DC6-6E9D-4B07-8594-C1F42F5A26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Esityksen väri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tyksen väreiksi on määritelty Aalto yliopiston ja korkeakoulujen graafisen ohjeistuksen vä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ääritykset vaikuttavat esimerkiksi kaavioiden ja itse piirrettyjen kuvioiden värei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640400" y="1582560"/>
          <a:ext cx="391464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582560"/>
                    <a:ext cx="391464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971640" y="4869000"/>
            <a:ext cx="1944720" cy="647640"/>
          </a:xfrm>
          <a:prstGeom prst="rect">
            <a:avLst/>
          </a:prstGeom>
          <a:solidFill>
            <a:srgbClr val="009b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C79-F9F2-4672-A472-D8E4D93AD8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1:43:08Z</dcterms:created>
  <dc:creator/>
  <dc:description/>
  <dc:language>en-US</dc:language>
  <cp:lastModifiedBy>Tieturi</cp:lastModifiedBy>
  <dcterms:modified xsi:type="dcterms:W3CDTF">2010-02-15T13:17:11Z</dcterms:modified>
  <cp:revision>9</cp:revision>
  <dc:subject/>
  <dc:title>Mallipohjan käyttöoh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3</vt:lpwstr>
  </property>
</Properties>
</file>