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3DC-7AC1-4E31-8CF5-FFD7F866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10A-D498-4B6E-85D4-BD2554D3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E4A-07A9-4C46-A4B8-D5600FD1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915-E3A0-4361-A172-45C82D38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3A2-CE90-4194-892C-F4A9EDD9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A359A-C350-4F80-8519-D70D0399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D90BD-BD03-4946-89A3-202194C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8B657-57F2-4622-9430-BB980C96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44548-8FB6-4DB3-B8D9-39A560F0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CA20B-B539-4054-9B42-BE7013CA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84C-5366-4197-B6B3-5553B2DD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3E87B-6AA3-4CE5-832D-649A0B66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2EBBC6-5463-44AD-A59D-7A0E63A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58C0A-34BE-44BD-86FA-CDB0D9C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9883F-E2B2-4435-9122-76D5A59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8D14E-07FC-40E3-81E1-CD99332A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B9BD4-074A-407F-91F7-281D80F8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22D9F-6CB5-4946-A617-1C5B8D9D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B1A-84CF-4D32-B08C-6038E976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FE336-EAF5-48B4-A9BE-CDE32652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5DE-0AE1-4E76-8912-A01756D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D05FA-EDE7-44B2-B710-AE83C951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E6BD3-510C-4D9C-B8B6-2CA4C227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699A9-E494-4940-840C-55CAEC32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98F37-36CD-4039-962D-E519ED08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725FF-A2A3-489A-B27C-B22A8FF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43B6F-C4EC-4280-86E4-A55DDCB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7836A-892B-43A4-864A-71BF5EA6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BB60F-0FD8-4314-B65A-334665B8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C5422-6121-449B-8965-0443EBBA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3CDF6-BC48-4EC1-B7D3-A0D5DDAF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74D-D844-4A27-AFB5-D7E65DF4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1A719-3DCB-4AF6-9786-12A26D4C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DD139-B9D0-47F3-A12A-8888619A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D8B98-E473-4A1D-9CA5-9192F656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12665-CD1A-4E31-A8D2-C21FBAF2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7344D-B655-406C-8221-DD6C6D87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8F629-B905-47E7-ADB8-9ECF0E7E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B4513-95B1-4AD8-975F-CABD097F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AB1A9-6F5B-41CC-82D3-106FA1A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E4092-83A6-4B92-A3FB-930AB5C7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9970A-FE32-4C22-91C4-2699C2DA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6B9-08E1-442A-9B6A-8907EB9B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F8606-8BD4-4CAD-A36D-57975BF5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E440D-6845-4C00-87A0-8F3C1C7B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4CFB2-39E0-4061-9FC4-98928AC0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C80-4A7D-47B0-9528-AB464263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1DE-861F-49C1-A00F-75645B4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9000" y="6272280"/>
            <a:ext cx="154296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6141600"/>
            <a:ext cx="154296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9000" y="6397200"/>
            <a:ext cx="154296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5289E6-B601-45C0-8613-CC49D53A69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440" y="1712880"/>
            <a:ext cx="8324640" cy="391968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1769760"/>
            <a:ext cx="7767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860200" y="5959080"/>
            <a:ext cx="20242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2ADFD-44EF-4FF6-9215-B24C5DFA5A82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1769760"/>
            <a:ext cx="7767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2860200" y="5959080"/>
            <a:ext cx="20242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F3751-C007-4B65-9980-5E0D368142DD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6440" y="406440"/>
            <a:ext cx="8324640" cy="54705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545760"/>
            <a:ext cx="77673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dt" idx="12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3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4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CF01B-3173-44A3-8033-3AD689F0D67A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320" y="1769760"/>
            <a:ext cx="77691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llipohjan käyttöohje (2003)</a:t>
            </a:r>
            <a:endParaRPr b="1" lang="en-US" sz="40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71320" y="3139560"/>
            <a:ext cx="628308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alto-yliopist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Kauppa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eknillinen 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aideteollinen 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Mallin valint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eja on jokaiselle korkeakoululle suomeksi, ruotsiksi ja englanniksi (paitsi Kauppakorkeakoululle vain suomeksi ja englannik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taa malli materiaalipankista ja tallenna se omalle koneelle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ksoisnapsauta mallia, jolloin aukeaa uusi esitys, ja aloita kirjoittami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52A-D95D-4B63-8CBD-AD727AEECE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Uuden dian luominen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 uusi dia käyttäen </a:t>
            </a:r>
            <a:br>
              <a:rPr sz="2400"/>
            </a:b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-painiket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itse dialle rakenne</a:t>
            </a:r>
            <a:br>
              <a:rPr sz="2400"/>
            </a:b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lide Layo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-tehtäväruud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940360" y="981000"/>
            <a:ext cx="182880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814-4399-4A75-B2EA-65F90C08AE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i-FI" sz="3200" spc="-1" strike="noStrike">
                <a:solidFill>
                  <a:srgbClr val="009b3a"/>
                </a:solidFill>
                <a:latin typeface="Arial"/>
              </a:rPr>
              <a:t>Luettelotekstidi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tteloteksteissä on viisi tas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as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s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so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oa voit vaihtaa käyttämällä PowerPointin Decrease Indent- ja Increase Indent -painikkeita (1). Tai tabulaattorinäppäintä ja SHIFT+tabulaattorinäppäin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571920" y="2421000"/>
            <a:ext cx="4786200" cy="1131840"/>
            <a:chOff x="3571920" y="2421000"/>
            <a:chExt cx="4786200" cy="113184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3571920" y="2421000"/>
              <a:ext cx="4786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338960" y="31845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0BD-9BD8-41D2-9E38-5788756676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äliotsikkodi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71320" y="285264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sityksessä on kolme erilaista otsikkodiaa. Katso erilaisen otsikkodian lisäysohje seuraavalta sivult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74CDD-0879-42C3-A68D-8BE1C40464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Erilaisen otsikkodian lisäys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680" y="1196640"/>
            <a:ext cx="5008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isää uusi dia napsauttamalla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-painike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hda dian rakenteeksi Title Slid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hda näkyville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lide Design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-tehtäväruutu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htäväruudussa kohdassa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sed in This Presentation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näkyy pikkukuvakkeina esityksessä käytettävissä olevat templatet (master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un viet hiiren templaten päälle, näkyy templaten nimi keltaisessa vihjelapu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aihtoehdot ovat aalto, white title ja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ikkukuvan oikeassa reunassa näkyy alaspäin osoittava väkä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Napsauta pikkukuvan oikeassa reunassa olevaa väkästä ja valitse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Apply to Selected Slide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uom. Mikäli vain napsautat Slide Design -tehtäväruudussa  näkyvää pikkukuvaa, tulee siinä oleva master käyttöön koko esityks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508720" y="1154160"/>
            <a:ext cx="158436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508720" y="2451240"/>
            <a:ext cx="1603440" cy="1873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508720" y="4538520"/>
            <a:ext cx="1584360" cy="11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220760" cy="1976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7380360" y="2421000"/>
            <a:ext cx="1466640" cy="1809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7380360" y="4365720"/>
            <a:ext cx="1763640" cy="1326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071040" y="2975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13960" y="157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87040" y="3808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27800" y="2954160"/>
            <a:ext cx="936360" cy="57636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80360" y="1628640"/>
            <a:ext cx="1079280" cy="28764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1640" y="3789360"/>
            <a:ext cx="1081080" cy="50328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68" idx="1"/>
            <a:endCxn id="269" idx="1"/>
          </p:cNvCxnSpPr>
          <p:nvPr/>
        </p:nvCxnSpPr>
        <p:spPr>
          <a:xfrm>
            <a:off x="5508720" y="115920"/>
            <a:ext cx="2160" cy="1637280"/>
          </a:xfrm>
          <a:prstGeom prst="curvedConnector5">
            <a:avLst>
              <a:gd name="adj1" fmla="val 40000"/>
              <a:gd name="adj2" fmla="val 49989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9" idx="1"/>
            <a:endCxn id="270" idx="1"/>
          </p:cNvCxnSpPr>
          <p:nvPr/>
        </p:nvCxnSpPr>
        <p:spPr>
          <a:xfrm>
            <a:off x="5508720" y="1638000"/>
            <a:ext cx="2160" cy="174996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0" idx="3"/>
            <a:endCxn id="278" idx="1"/>
          </p:cNvCxnSpPr>
          <p:nvPr/>
        </p:nvCxnSpPr>
        <p:spPr>
          <a:xfrm flipV="1">
            <a:off x="7093080" y="1771200"/>
            <a:ext cx="288000" cy="3364560"/>
          </a:xfrm>
          <a:prstGeom prst="curvedConnector5">
            <a:avLst>
              <a:gd name="adj1" fmla="val 49937"/>
              <a:gd name="adj2" fmla="val 49994"/>
              <a:gd name="adj3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8" idx="3"/>
            <a:endCxn id="272" idx="3"/>
          </p:cNvCxnSpPr>
          <p:nvPr/>
        </p:nvCxnSpPr>
        <p:spPr>
          <a:xfrm>
            <a:off x="8459640" y="1771200"/>
            <a:ext cx="388080" cy="155484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2" idx="3"/>
            <a:endCxn id="273" idx="0"/>
          </p:cNvCxnSpPr>
          <p:nvPr/>
        </p:nvCxnSpPr>
        <p:spPr>
          <a:xfrm flipV="1" rot="10800000">
            <a:off x="8260560" y="3325320"/>
            <a:ext cx="585000" cy="104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975-BD32-44EE-BB09-BEDE3723E5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Alatunnisteen tiedo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latunnisteen tietoja pääset vaihtamaan valitsemalla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View - Header and Footer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tsikkosivulla näytetään vain päivämäär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40400" y="1628640"/>
            <a:ext cx="391608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58E-94E7-42D0-9159-434A693D4A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Esityksen väri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tyksen väreiksi on määritelty Aalto yliopiston ja korkeakoulujen graafisen ohjeistuksen vä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ääritykset vaikuttavat esimerkiksi kaavioiden ja itse piirrettyjen kuvioiden värei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640400" y="1582560"/>
          <a:ext cx="391464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582560"/>
                    <a:ext cx="391464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971640" y="4869000"/>
            <a:ext cx="1944720" cy="647640"/>
          </a:xfrm>
          <a:prstGeom prst="rect">
            <a:avLst/>
          </a:prstGeom>
          <a:solidFill>
            <a:srgbClr val="009b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72B-7FFD-4ACF-BEDE-82EBDDD9C2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1:43:08Z</dcterms:created>
  <dc:creator/>
  <dc:description/>
  <dc:language>en-US</dc:language>
  <cp:lastModifiedBy>Tieturi</cp:lastModifiedBy>
  <dcterms:modified xsi:type="dcterms:W3CDTF">2010-02-15T13:17:11Z</dcterms:modified>
  <cp:revision>9</cp:revision>
  <dc:subject/>
  <dc:title>Mallipohjan käyttöoh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3</vt:lpwstr>
  </property>
</Properties>
</file>