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EAE-7C78-4927-AADD-B42A12FC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294-3E04-44B2-8BAE-32ED6FAA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2BB-F546-43A4-85F3-E4BAE661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68F-219D-4D88-B776-44E53C0B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AFF-6E32-46FD-AB92-9436D9BA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FE10B-471E-4059-ACA7-98D75C59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E8D8C-B0A9-4588-B358-60378E67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D4DAE-080D-476A-BA28-27825B3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20F6A-2507-40DB-9509-1A92F846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8DBD2-14A2-4CCD-B133-6891C120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C51-0C1E-4482-B02B-6D0F5238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22D2C-B5F6-4FF1-AC23-277506A4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497AE-9C0F-4204-92B1-D980585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5F797-6F10-45F3-813F-559CADC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0799D-03BC-414F-A3CB-8F1F03E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9A61F-198A-4AC8-9B0A-8DDE529A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8E0BD-D1F7-44A4-B52F-2735A75C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586EF-3D22-42C2-A1DD-33AD0836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4D6-B98B-4A8D-BD00-843AAE4A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9D5E8-2EFB-49DA-925C-E1A44509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373-11F4-4585-ABEC-71313E1C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AFC57-0399-44F2-8844-3B9426D4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A3C6A-9000-4B78-9EA3-BDC3E63A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1917D-CAA7-41B3-A0B2-7268B7E0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343BF-2A29-4074-A6FD-D63016B7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8B591-4D9C-488A-87FF-7B36E3A7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E4A56-D6D2-4E21-9A08-48C47FD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5BF08-DE68-46DA-8813-B2936A6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65FC2-3B48-470E-9EF5-BF27619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3B8FE7-5F82-4584-8CC3-22F3C51A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0F5CA-BEDF-4B2B-AC31-CE376A0C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888-000C-4183-9A6C-68F20B91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2DA30-232D-44E7-946D-0C78F048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AB53A-1524-4CED-95BA-2D11F82D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8258E-8978-43FD-9D99-D4864B52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1683B-2BA3-44E8-BC4E-8F2E973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8F020-C0D9-4F07-935B-CC8381FD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7D2CF-D89D-4D13-B781-49DFDEC7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6BC00-363A-4EF5-BA52-66B6F254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FEB92-C485-4BDF-ACA5-8D5EC72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D44C6-7C71-487A-9DC7-E05E656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DE7A8-E2AA-4045-B5C6-1F6FFFC8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B95-C595-4CFB-8C8C-2B414016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69331-9EE9-40FF-B4CF-16F1680A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BCD52-4141-4573-86B1-07DB19F3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CCA22-CBFA-43DA-BB63-B398C215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CCA-57FB-48D0-9D0D-86E0FB27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4DC-2365-46D5-96ED-15C04357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092-2F52-40B9-A556-1E801CC05BDA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440" y="1712880"/>
            <a:ext cx="8324640" cy="391968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860200" y="5959440"/>
            <a:ext cx="2025720" cy="1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8E31-F872-42F0-A625-49CDE6CCF2A7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2860200" y="5959440"/>
            <a:ext cx="2025720" cy="1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64CD-4FDB-482C-82EB-7167D8B98BD4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6440" y="406440"/>
            <a:ext cx="8324640" cy="54705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2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3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4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B064-D3E2-4E83-9987-2AB779757690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71320" y="314172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alto Universit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Economic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Science and Technolog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Art and Desig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plate user guide (200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emplate selec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emplates for each school in Finnish, Swedish, and English (templates for School of Economics are only in Finnish and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e template from Visual Identity Downloads and save it on your ow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a template. This initiates a new presentation, and you can start 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38B-221A-482B-97F8-B65DA0A150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reating a new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slide by using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layout from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1847880" cy="45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47F-5B85-497D-9F9C-6060349124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itle and text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have five indentat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can be changed by using PowerPoint's Decrease Indent and Increase Indent buttons (1). Also, the TAB key and Shift+TAB combination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480996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F8C-72F6-4148-B4F6-906BE90717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titl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71320" y="285264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 presentation has three different title slides. To see how a different title slide is inserted, see the next page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92E99-86B3-4F52-B262-EAC0E934D5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Inserting a different titl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1270080"/>
            <a:ext cx="457668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a new slide by clicking the New Slide but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slide's layout to Title Slid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he Slide Design Task Pan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ask Pane's Used in This Presentation section displays thumbnails of the templates (master slides) that can be used in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you move the mouse pointer on a template, a yellow tooltip shows it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lternatives are aalto, white title, and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right of the thumbnail, there's a small arrow pointing down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little arrow on the right edge of the thumbnail and select Apply to Selected Slide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If you just click the thumbnail itself, the slide master it refers to is applied to the entire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149800" y="404640"/>
            <a:ext cx="3886200" cy="53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D54D1-97AA-46F3-9485-5E6399D425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Footer informa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er information can be edited by selec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- Header and 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ate is displayed on the titl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3933720" cy="29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A5AF5-A995-403C-B2FE-33A815E47E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olors in a presenta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s dictated by the graphics guidelines of Aalto University and its schools have been predefined as default colors for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efinitions have effect, for example, on the colors of charts and self-drawn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40400" y="1582560"/>
          <a:ext cx="3916080" cy="41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582560"/>
                    <a:ext cx="3916080" cy="41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1971720" cy="6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966D0-252C-4057-9E35-3D8152ED49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1:37:19Z</dcterms:created>
  <dc:creator>Tieturi</dc:creator>
  <dc:description/>
  <dc:language>en-US</dc:language>
  <cp:lastModifiedBy>Tieturi</cp:lastModifiedBy>
  <dcterms:modified xsi:type="dcterms:W3CDTF">2010-02-19T12:26:10Z</dcterms:modified>
  <cp:revision>3</cp:revision>
  <dc:subject/>
  <dc:title>PowerPoint Template user guide (2003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1</vt:lpwstr>
  </property>
</Properties>
</file>