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81D-03D2-45C2-AF70-933A2F33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4CC-9F94-4ACD-9B60-6E7E1D47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553-251D-46C7-BD47-2F5B95D3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8A5-AF3B-4958-8941-3FD8B1B4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D35-EAB9-41FE-81C0-8CE0C67C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07A4AA-E79F-4F0B-842D-BEC65BF0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A3446F-E874-48A1-BE88-39E0A91D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320792-6C71-4C27-A9A2-21B02571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362878-404D-4FB9-88AF-C49612C7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C1B950-16B1-49EC-B52E-98B12750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920-9332-4F5E-9EAD-0CA4F347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E0F652-9B35-44C1-9966-E3A26677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F93AD-6BA3-421B-ACEB-A0CBB9E4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5A71B9-E97F-4F6F-B30E-E990EACF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A5C173-76C7-4FD4-BA8D-EF921A5E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D499A3-8B53-4C95-B0E1-619522D4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1C4F8E-9836-44D8-BE8F-F85C2F11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9EBE2C-AECA-4840-A1E4-74CDDF0F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549-C820-414E-8167-2949E1A2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1BE418-83E6-409B-B19E-8A54CDB7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1C8-2BA1-4A7B-8E3D-895DECFC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200E7E-CD9B-4F1B-A8C0-32F6666B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9FF0A9-E0F6-4442-8A45-50969E99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41CDF-C18F-4A30-8202-D3C235D6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29E8B6-5EE2-4C5C-9540-637438E2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0D4814-87BF-4316-B6C3-30FA10D1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24926-5C87-44AE-AE19-DE13FA60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BC524-8748-402F-865B-8FCDAE92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A07558-8F27-40A2-8970-2D834899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AB61E-F91D-43A7-9295-E0074394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954B37-D8AB-4249-A9FC-99BDC010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B8F-BB6B-4C51-802F-8B224480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8FB24F-5B7A-4AA8-A521-FC9F2E46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774923-282F-4DDC-8C9D-D7254DE0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03621-55A9-4E5A-AF59-7A51591F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27AB02-DB5F-483C-92AB-6EC4FC8F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47D6B-1800-42E7-9A7B-327C8DF7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B4A4D-E800-4CB6-8D46-F73A893B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ED9A41-4BF4-4C7F-845D-D8B5BFF0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4E5CF-F4F6-4558-AB92-6CA782D4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61F0B-BC93-4D7B-A9EB-13471F3E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D47D67-763C-4433-B00A-F9F28698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F2C-872E-4AE4-B1E7-7BA1ACBD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21744-35CD-4930-849F-4DBED593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EBD02D-F056-4CC2-9847-FBA76BE3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A838AB-A5D8-4A60-95D7-D78B84C9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3DE-1BD2-49C6-931D-F6A12570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B1A-840D-4264-9697-3A487F69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9000" y="6272280"/>
            <a:ext cx="1542960" cy="2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6141600"/>
            <a:ext cx="1542960" cy="2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9000" y="6397200"/>
            <a:ext cx="1542960" cy="2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8103FD-1F65-4011-92F8-36EACADD53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06440" y="1712880"/>
            <a:ext cx="8324640" cy="391968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1769760"/>
            <a:ext cx="7767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860200" y="5959080"/>
            <a:ext cx="202428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1630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3429000" y="627192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3429000" y="61416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429000" y="63972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524E1-BED1-4C47-9342-6DD2C4D3C0C8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680" y="1769760"/>
            <a:ext cx="7767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8"/>
          </p:nvPr>
        </p:nvSpPr>
        <p:spPr>
          <a:xfrm>
            <a:off x="2860200" y="5959080"/>
            <a:ext cx="202428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16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9"/>
          </p:nvPr>
        </p:nvSpPr>
        <p:spPr>
          <a:xfrm>
            <a:off x="3429000" y="627192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0"/>
          </p:nvPr>
        </p:nvSpPr>
        <p:spPr>
          <a:xfrm>
            <a:off x="3429000" y="61416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1"/>
          </p:nvPr>
        </p:nvSpPr>
        <p:spPr>
          <a:xfrm>
            <a:off x="3429000" y="63972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C2F02-6052-4C54-9498-F18791E8A610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06440" y="406440"/>
            <a:ext cx="8324640" cy="547056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545760"/>
            <a:ext cx="77673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dt" idx="12"/>
          </p:nvPr>
        </p:nvSpPr>
        <p:spPr>
          <a:xfrm>
            <a:off x="3429000" y="627192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3"/>
          </p:nvPr>
        </p:nvSpPr>
        <p:spPr>
          <a:xfrm>
            <a:off x="3429000" y="61416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4"/>
          </p:nvPr>
        </p:nvSpPr>
        <p:spPr>
          <a:xfrm>
            <a:off x="3429000" y="63972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A841D-BA4E-4773-BE8E-ACDCAC3C2D41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320" y="1769760"/>
            <a:ext cx="77691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llipohjan käyttöohje (2003)</a:t>
            </a:r>
            <a:endParaRPr b="1" lang="en-US" sz="40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571320" y="3139560"/>
            <a:ext cx="628308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alto-yliopist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Kauppakorkeakoulu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eknillinen korkeakoulu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aideteollinen korkeakoulu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Mallin valinta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lleja on jokaiselle korkeakoululle suomeksi, ruotsiksi ja englanniksi (paitsi Kauppakorkeakoululle vain suomeksi ja englannik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taa malli materiaalipankista ja tallenna se omalle koneelle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ksoisnapsauta mallia, jolloin aukeaa uusi esitys, ja aloita kirjoittami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A752-5ECD-4854-8BE5-073173AB8F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Uuden dian luominen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o uusi dia käyttäen </a:t>
            </a:r>
            <a:br>
              <a:rPr sz="2400"/>
            </a:b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New Slide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-painiket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litse dialle rakenne</a:t>
            </a:r>
            <a:br>
              <a:rPr sz="2400"/>
            </a:b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lide Layou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-tehtäväruud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940360" y="981000"/>
            <a:ext cx="182880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81F-C4EF-443B-8D89-FBE76ECB32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i-FI" sz="3200" spc="-1" strike="noStrike">
                <a:solidFill>
                  <a:srgbClr val="009b3a"/>
                </a:solidFill>
                <a:latin typeface="Arial"/>
              </a:rPr>
              <a:t>Luettelotekstidia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tteloteksteissä on viisi tas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s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s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as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aso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aso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soa voit vaihtaa käyttämällä PowerPointin Decrease Indent- ja Increase Indent -painikkeita (1). Tai tabulaattorinäppäintä ja SHIFT+tabulaattorinäppäint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571920" y="2421000"/>
            <a:ext cx="4786200" cy="1131840"/>
            <a:chOff x="3571920" y="2421000"/>
            <a:chExt cx="4786200" cy="113184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3571920" y="2421000"/>
              <a:ext cx="4786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338960" y="318456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CFC-8E41-4153-B6E8-EF98BA3735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545760"/>
            <a:ext cx="776916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äliotsikkodia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71320" y="2852640"/>
            <a:ext cx="62830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sityksessä on kolme erilaista otsikkodiaa. Katso erilaisen otsikkodian lisäysohje seuraavalta sivulta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CBCA5-281E-40B3-A0F1-2C61FCCC38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Erilaisen otsikkodian lisäys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680" y="1196640"/>
            <a:ext cx="5008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Lisää uusi dia napsauttamalla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New Slide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-painiket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aihda dian rakenteeksi Title Slide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aihda näkyville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Slide Design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-tehtäväruutu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ehtäväruudussa kohdassa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Used in This Presentation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näkyy pikkukuvakkeina esityksessä käytettävissä olevat templatet (master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un viet hiiren templaten päälle, näkyy templaten nimi keltaisessa vihjelapu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vaihtoehdot ovat aalto, white title ja sub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pikkukuvan oikeassa reunassa näkyy alaspäin osoittava väkä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Napsauta pikkukuvan oikeassa reunassa olevaa väkästä ja valitse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Apply to Selected Slides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uom. Mikäli vain napsautat Slide Design -tehtäväruudussa  näkyvää pikkukuvaa, tulee siinä oleva master käyttöön koko esityks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508720" y="1154160"/>
            <a:ext cx="1584360" cy="11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508720" y="2451240"/>
            <a:ext cx="1603440" cy="1873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5508720" y="4538520"/>
            <a:ext cx="1584360" cy="11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7380360" y="333360"/>
            <a:ext cx="1220760" cy="19764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7380360" y="2421000"/>
            <a:ext cx="1466640" cy="1809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7380360" y="4365720"/>
            <a:ext cx="1763640" cy="1326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071040" y="29750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013960" y="1576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87040" y="3808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27800" y="2954160"/>
            <a:ext cx="936360" cy="576360"/>
          </a:xfrm>
          <a:prstGeom prst="rect">
            <a:avLst/>
          </a:prstGeom>
          <a:noFill/>
          <a:ln w="28440">
            <a:solidFill>
              <a:srgbClr val="ed2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80360" y="1628640"/>
            <a:ext cx="1079280" cy="287640"/>
          </a:xfrm>
          <a:prstGeom prst="rect">
            <a:avLst/>
          </a:prstGeom>
          <a:noFill/>
          <a:ln w="28440">
            <a:solidFill>
              <a:srgbClr val="ed2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1640" y="3789360"/>
            <a:ext cx="1081080" cy="503280"/>
          </a:xfrm>
          <a:prstGeom prst="rect">
            <a:avLst/>
          </a:prstGeom>
          <a:noFill/>
          <a:ln w="28440">
            <a:solidFill>
              <a:srgbClr val="ed2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68" idx="1"/>
            <a:endCxn id="269" idx="1"/>
          </p:cNvCxnSpPr>
          <p:nvPr/>
        </p:nvCxnSpPr>
        <p:spPr>
          <a:xfrm>
            <a:off x="5508720" y="115920"/>
            <a:ext cx="2160" cy="1637280"/>
          </a:xfrm>
          <a:prstGeom prst="curvedConnector5">
            <a:avLst>
              <a:gd name="adj1" fmla="val 40000"/>
              <a:gd name="adj2" fmla="val 49989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9" idx="1"/>
            <a:endCxn id="270" idx="1"/>
          </p:cNvCxnSpPr>
          <p:nvPr/>
        </p:nvCxnSpPr>
        <p:spPr>
          <a:xfrm>
            <a:off x="5508720" y="1638000"/>
            <a:ext cx="2160" cy="174996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0" idx="3"/>
            <a:endCxn id="278" idx="1"/>
          </p:cNvCxnSpPr>
          <p:nvPr/>
        </p:nvCxnSpPr>
        <p:spPr>
          <a:xfrm flipV="1">
            <a:off x="7093080" y="1771200"/>
            <a:ext cx="288000" cy="3364560"/>
          </a:xfrm>
          <a:prstGeom prst="curvedConnector5">
            <a:avLst>
              <a:gd name="adj1" fmla="val 49937"/>
              <a:gd name="adj2" fmla="val 49994"/>
              <a:gd name="adj3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8" idx="3"/>
            <a:endCxn id="272" idx="3"/>
          </p:cNvCxnSpPr>
          <p:nvPr/>
        </p:nvCxnSpPr>
        <p:spPr>
          <a:xfrm>
            <a:off x="8459640" y="1771200"/>
            <a:ext cx="388080" cy="155484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2" idx="3"/>
            <a:endCxn id="273" idx="0"/>
          </p:cNvCxnSpPr>
          <p:nvPr/>
        </p:nvCxnSpPr>
        <p:spPr>
          <a:xfrm flipV="1" rot="10800000">
            <a:off x="8260560" y="3325320"/>
            <a:ext cx="585000" cy="10407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9E74-C7A2-4D40-9277-DF5CD50CD3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Alatunnisteen tiedo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latunnisteen tietoja pääset vaihtamaan valitsemalla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View - Header and Footer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tsikkosivulla näytetään vain päivämäärä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640400" y="1628640"/>
            <a:ext cx="3916080" cy="296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942-1384-4C32-8A22-1C7205F679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Esityksen väri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tyksen väreiksi on määritelty Aalto yliopiston ja korkeakoulujen graafisen ohjeistuksen vär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ääritykset vaikuttavat esimerkiksi kaavioiden ja itse piirrettyjen kuvioiden väreih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640400" y="1582560"/>
          <a:ext cx="391464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0400" y="1582560"/>
                    <a:ext cx="391464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971640" y="4869000"/>
            <a:ext cx="1944720" cy="647640"/>
          </a:xfrm>
          <a:prstGeom prst="rect">
            <a:avLst/>
          </a:prstGeom>
          <a:solidFill>
            <a:srgbClr val="009b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7CD-A12D-490E-85C8-9E683C2A17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1:43:08Z</dcterms:created>
  <dc:creator/>
  <dc:description/>
  <dc:language>en-US</dc:language>
  <cp:lastModifiedBy>Tieturi</cp:lastModifiedBy>
  <dcterms:modified xsi:type="dcterms:W3CDTF">2010-02-15T13:17:11Z</dcterms:modified>
  <cp:revision>9</cp:revision>
  <dc:subject/>
  <dc:title>Mallipohjan käyttöoh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vTieturiVerId">
    <vt:lpwstr>003</vt:lpwstr>
  </property>
</Properties>
</file>