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011-B064-482B-9E25-C659BC37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D33-E0D6-49BC-8623-92D93B87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733-B895-4E8C-868E-7AFB675C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FF4-AFBF-4C99-B9C3-345C0416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949-C332-4C8F-87F1-B6AB9605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7D425-74BD-47BB-B607-4EB7AEE3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93865-1BF9-4045-A294-FBFFD50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24691-BA6E-41AC-BA07-58E33FE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0D33A-9AE8-4811-9E71-749F5B6A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DE76E-A23C-441C-9943-592C0382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CA3-705A-4DE1-90B4-80EB1A1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0D7B8-15EA-4E97-AF3E-1DD20FB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53BC1-BC37-4853-8470-B4FBC2D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578A0-906C-4CE5-9DCA-BFBA54E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1C693-1ABC-46AB-B1DA-9D226FD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A5B24-2F8C-444D-B540-711002D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6A26B-EE08-4CE2-8435-5F8EB2A9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A1E9C-DDFB-4E37-B018-2010314E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52E-E257-48A3-8038-3A635E28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DA914-304B-4FBC-9C53-C11751F9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C95-92D9-4310-96D3-C0AEE49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DF994-E80E-47A8-BA62-3F687F3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54C00-79E6-4A92-9DCE-50727EF8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8FDDC-E069-4D1E-9BD3-B0CC9D9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1B4D6-B42E-4BA4-A1A9-ED09B0B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60061-D549-41AC-A224-D3ECD0B0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B4196-6762-4680-A0F6-743446A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E38B6-A016-40A7-B2EF-C2F81C1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6373F-01B4-4D0A-8E5B-4E2BC0F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08C2B-32C2-4733-8C7F-6C2242B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94A42-BA34-4A83-BACB-EC3CC108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67D-5081-4F4E-BFB3-803DD16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ACD3C-D443-415E-B289-830CE970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32157-668E-4CF6-BB31-58CCAA91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FD28D-979F-4E21-AE40-080FC7BC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25CAA-0C41-4613-8C65-A8264AFE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B9A1B-547A-46C8-A7EE-216DD17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4B5A6-5C80-4415-9A7F-C87C93B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7D2AE-7357-4EBA-9320-2D3D981C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D8CB7-3C6A-40D8-8397-5CCA741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58703-AFAB-4FF0-BB1F-04BCAFC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E7639-6986-4C04-B5B9-6C5C4FB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FCD-0C67-4524-BD92-79FECF7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28619-B37F-496E-80E7-69ABCD9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85A67-D4ED-4AA6-805D-2FE7A7B8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E0F71-724A-482A-BA37-5AB7AD52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4E8-905A-40C2-B89B-74DE210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73A-21F0-49EA-A7F0-BC2AFF0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D3A-5975-443C-8735-E150897B31F0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2604-9217-49F0-A7DA-BCE5F14FDC66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276-0A84-4B1E-BAF5-3D5C5145C86F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2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46C-B1B4-408E-BB2C-EC99E3C3C4C6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314172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 Universi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Economic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Science and Technolog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Art and Desig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late user guide (200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mplate selec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emplates for each school in Finnish, Swedish, and English (templates for School of Economics are only in Finnish and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template from Visual Identity Downloads and save it on your ow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a template. This initiates a new presentation, and you can start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0CA-4265-414A-B16A-75D2ACC097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reating a new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 by using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ayout from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847880" cy="45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426-EE45-43B9-9D8D-85611216A1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itle and text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have five indenta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can be changed by using PowerPoint's Decrease Indent and Increase Indent buttons (1). Also, the TAB key and Shift+TAB combination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8099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D2A-8E14-4E5A-B4B5-5BF4A009FB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titl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presentation has three different title slides. To see how a different title slide is inserted, see the next page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FEFA5-4051-49B2-9802-5F084449D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serting a different titl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270080"/>
            <a:ext cx="45766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 new slide by clicking the New Slide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slide's layout to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Slide Design Task Pan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sk Pane's Used in This Presentation section displays thumbnails of the templates (master slides) that can be used in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you move the mouse pointer on a template, a yellow tooltip shows i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s are aalto, white title, and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right of the thumbnail, there's a small arrow pointing down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little arrow on the right edge of the thumbnail and select Apply to Selected Slide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If you just click the thumbnail itself, the slide master it refers to is applied to the entir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49800" y="404640"/>
            <a:ext cx="3886200" cy="53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48832-4F06-4011-AAAD-A9CB3E3B8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Footer inform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er information can be edited by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ate is displayed on the titl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3933720" cy="29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C58B6-249B-45D5-8003-1A97B2756D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olors in a present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 dictated by the graphics guidelines of Aalto University and its schools have been predefined as default colors for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efinitions have effect, for example, on the colors of charts and self-drawn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0400" y="1582560"/>
          <a:ext cx="391608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608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1971720" cy="6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296B5-384A-41FF-AF62-DE0D4F2C75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1:37:19Z</dcterms:created>
  <dc:creator>Tieturi</dc:creator>
  <dc:description/>
  <dc:language>en-US</dc:language>
  <cp:lastModifiedBy>Tieturi</cp:lastModifiedBy>
  <dcterms:modified xsi:type="dcterms:W3CDTF">2010-02-19T12:26:10Z</dcterms:modified>
  <cp:revision>3</cp:revision>
  <dc:subject/>
  <dc:title>PowerPoint Template user guide (200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1</vt:lpwstr>
  </property>
</Properties>
</file>