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63C5-D73C-4072-A65C-233630167F5F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stat.fi/til/sutivi/2014/sutivi_2014_2014-11-06_kat_005_fi.html" TargetMode="External"/><Relationship Id="rId2" Type="http://schemas.openxmlformats.org/officeDocument/2006/relationships/hyperlink" Target="http://www.stat.fi/til/sutivi/2014/sutivi_2014_2014-11-06_kat_005_fi.html" TargetMode="External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D093-2FBE-4A51-BBD3-991D04610198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K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C608-CACF-4D37-9358-FE054BE3F910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K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4136-F759-43AC-96EE-70926EC2FA84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K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21F4-3E7D-4FB6-A0AF-E767AD0872BD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MAR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Abloy becomes a delivery company ”DIY” ”all in” -</a:t>
            </a:r>
            <a:r>
              <a:rPr b="0" lang="fi-FI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 possibility to subcontract to a delivery company </a:t>
            </a:r>
            <a:r>
              <a:rPr b="0" lang="fi-FI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 selling the box with a cheap price to the consumer (custo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Selling the entrance to the boxes, ”tool for the delivery company” </a:t>
            </a:r>
            <a:r>
              <a:rPr b="0" lang="fi-FI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user pays for the 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3.  Sell the boxes. With individual boxes marketing is easy if you put the price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F864-7A58-4D32-BC0D-A8C16FC30D3B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MAR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Is it clear for you al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Abloy becomes a delivery company ”DIY” ”all in” -</a:t>
            </a:r>
            <a:r>
              <a:rPr b="0" lang="fi-FI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 possibility to subcontract to a delivery company </a:t>
            </a:r>
            <a:r>
              <a:rPr b="0" lang="fi-FI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 selling the box with a cheap price to the consumer (custo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Selling the entrance to the boxes, ”tool for the delivery company” </a:t>
            </a:r>
            <a:r>
              <a:rPr b="0" lang="fi-FI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user pays for the 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3.  Sell the boxes. With individual boxes marketing is easy if you put the price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6D67-2E07-4075-82C6-B30948ED1DE5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8DD7-4670-4B05-B0E9-58626A40BA7A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MAR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The delivery company can’t reach the customer by a phone call </a:t>
            </a:r>
            <a:r>
              <a:rPr b="0" lang="mr-IN" sz="1200" spc="-1" strike="noStrike">
                <a:solidFill>
                  <a:srgbClr val="000000"/>
                </a:solidFill>
                <a:latin typeface="Arial"/>
                <a:ea typeface="Mangal"/>
              </a:rPr>
              <a:t>–</a:t>
            </a: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they don’t reach the customer or the delivery company doesn’t have time to c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18C4-D192-4387-ADBE-1A16ACE81A74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JUK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Verisure is a company that sells home alarm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5018-66F5-4A57-8790-6999A9BC57A6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ANNUK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Abloy is a leader in lock systems but it has five main competitors in 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Ingersoll-Rand (US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Stanley Black &amp; Decker(US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Dorma (German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Kaba Group (Switzerla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Hörmann (German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6055-0049-417C-9523-20A54D8D38EA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ANNUK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stat.fi/til/sutivi/2014/sutivi_2014_2014-11-06_kat_005_fi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reasing need to give the ac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t-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7E45-AD44-44CF-8C87-EAA254BE73F5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JUK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PEST  is a strategic tool for understanding market growth or decline, business position, potential and direction for 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ustomer reaction and mentality change towards the electric locking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034E-9146-46A8-A250-9A82235D7BD1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JUK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Abloy becomes a delivery company ”DIY” ”all in” -</a:t>
            </a:r>
            <a:r>
              <a:rPr b="0" lang="fi-FI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 possibility to subcontract to a delivery company </a:t>
            </a:r>
            <a:r>
              <a:rPr b="0" lang="fi-FI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 selling the box with a cheap price to the consumer (custo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Selling the entrance to the boxes, ”tool for the delivery company” </a:t>
            </a:r>
            <a:r>
              <a:rPr b="0" lang="fi-FI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user pays for the 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3.  Sell the boxes. With individual boxes marketing is easy if you put the price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519D-9323-4136-8884-3C3016E11665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JUK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Abloy becomes a delivery company ”DIY” ”all in” -</a:t>
            </a:r>
            <a:r>
              <a:rPr b="0" lang="fi-FI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 possibility to subcontract to a delivery company </a:t>
            </a:r>
            <a:r>
              <a:rPr b="0" lang="fi-FI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 selling the box with a cheap price to the consumer (custo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Selling the entrance to the boxes, ”tool for the delivery company” </a:t>
            </a:r>
            <a:r>
              <a:rPr b="0" lang="fi-FI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user pays for the 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3.  Sell the boxes. With individual boxes marketing is easy if you put the price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5ECD-0EBA-45A5-8656-2F6B88B4BC8A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structure = for global deliveries AIRPLANES, trucks, et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E122-BD29-488E-BA63-0ED9C56EAFA7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5CBE-C77C-4B20-A6C7-1011E9D2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3120" y="374436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609A-95EE-49F4-978E-D56A251F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8074-61BC-4B57-ADC3-6E7AF7C7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420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564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7312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420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564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8A79-4895-4628-9F85-DAC38F4E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3120" y="488520"/>
            <a:ext cx="7988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D4F8-A2A0-4FBB-9359-FE297776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63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3120" y="374436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63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420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564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7312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420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564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944C-3E34-4CD3-862E-92B96830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73120" y="488520"/>
            <a:ext cx="7988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63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73120" y="374436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63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7420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7564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7312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7420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7564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D9F0D5-BEF1-4A7F-BF45-443AFB61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BA1551-DB0D-4C34-BBFE-75A729EA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392812-1FCC-4B5E-A24D-76592AB0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79AE-F0AB-4CB7-9F5B-58D3C1C8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E089F2-2232-4B06-9189-F0340C8A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A71305-9C3D-46FA-B91B-A91CEDC2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73120" y="488520"/>
            <a:ext cx="7988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1F811F-752A-4DA2-8842-95F6D02D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E99AD7-928B-45D8-9C26-F9F8FDA7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63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139886-9A64-4BEE-B26F-3940B558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356988-E811-499F-ACD9-E968E3C5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73120" y="374436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E2FDFA-A829-44AF-B563-363BC4B4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63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9E6366-5878-424F-9C6D-B77EA56E5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7420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7564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7312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7420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7564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DB98F0-4077-48EB-B84A-8253BD208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7006-286D-428E-8250-8C1FB9F0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3120" y="488520"/>
            <a:ext cx="7988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2E3D-234C-4ED6-B0B7-BA8A7C6C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E294-6732-42A2-9A48-FB0027C6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9E91-14D6-4D45-9E8E-9151A1A9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FDFF-F15A-41AE-85D4-416F7222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Aalto_EN_Electr-Eng_13_RGB_2"/>
          <p:cNvPicPr/>
          <p:nvPr/>
        </p:nvPicPr>
        <p:blipFill>
          <a:blip r:embed="rId2"/>
          <a:stretch/>
        </p:blipFill>
        <p:spPr>
          <a:xfrm>
            <a:off x="216000" y="5815080"/>
            <a:ext cx="2519280" cy="1042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430080" y="6275520"/>
            <a:ext cx="1544760" cy="1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367F-E3AA-4A4C-878A-1C504FD8E533}" type="datetime"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30080" y="6145200"/>
            <a:ext cx="1544760" cy="1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430080" y="6400800"/>
            <a:ext cx="1544760" cy="1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3909-A058-429F-B274-57AC2247E36E}" type="slidenum"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71680" y="5813280"/>
            <a:ext cx="7988040" cy="65160"/>
          </a:xfrm>
          <a:prstGeom prst="rect">
            <a:avLst/>
          </a:prstGeom>
          <a:solidFill>
            <a:srgbClr val="ff79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Aalto_EN_Electr-Eng_21_RGB_2"/>
          <p:cNvPicPr/>
          <p:nvPr/>
        </p:nvPicPr>
        <p:blipFill>
          <a:blip r:embed="rId2"/>
          <a:srcRect l="0" t="1401" r="0" b="0"/>
          <a:stretch/>
        </p:blipFill>
        <p:spPr>
          <a:xfrm>
            <a:off x="27000" y="0"/>
            <a:ext cx="2089080" cy="1924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0"/>
          <p:cNvSpPr/>
          <p:nvPr/>
        </p:nvSpPr>
        <p:spPr>
          <a:xfrm>
            <a:off x="406440" y="1712880"/>
            <a:ext cx="8326440" cy="392112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862000" y="5960880"/>
            <a:ext cx="202716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928b8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91B8-F530-489F-8AE1-3CF00018DD7C}" type="datetime">
              <a:rPr b="1" lang="en-US" sz="1200" spc="-1" strike="noStrike">
                <a:solidFill>
                  <a:srgbClr val="928b8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Aalto_EN_Electr-Eng_21_RGB_2"/>
          <p:cNvPicPr/>
          <p:nvPr/>
        </p:nvPicPr>
        <p:blipFill>
          <a:blip r:embed="rId2"/>
          <a:srcRect l="0" t="1401" r="0" b="0"/>
          <a:stretch/>
        </p:blipFill>
        <p:spPr>
          <a:xfrm>
            <a:off x="27000" y="0"/>
            <a:ext cx="2089080" cy="1924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5"/>
          </p:nvPr>
        </p:nvSpPr>
        <p:spPr>
          <a:xfrm>
            <a:off x="2862000" y="5960880"/>
            <a:ext cx="202716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928b8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310F-731F-464D-94C4-622B545AAD7B}" type="datetime">
              <a:rPr b="1" lang="en-US" sz="1200" spc="-1" strike="noStrike">
                <a:solidFill>
                  <a:srgbClr val="928b8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Aalto_EN_Electr-Eng_13_RGB_2"/>
          <p:cNvPicPr/>
          <p:nvPr/>
        </p:nvPicPr>
        <p:blipFill>
          <a:blip r:embed="rId2"/>
          <a:stretch/>
        </p:blipFill>
        <p:spPr>
          <a:xfrm>
            <a:off x="216000" y="5815080"/>
            <a:ext cx="2519280" cy="10429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0"/>
          <p:cNvSpPr/>
          <p:nvPr/>
        </p:nvSpPr>
        <p:spPr>
          <a:xfrm>
            <a:off x="406440" y="406440"/>
            <a:ext cx="8326440" cy="547200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6"/>
          </p:nvPr>
        </p:nvSpPr>
        <p:spPr>
          <a:xfrm>
            <a:off x="3430080" y="6275520"/>
            <a:ext cx="1544760" cy="1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D58D-7735-4B21-9F8A-A2DE7FB8C984}" type="datetime"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7"/>
          </p:nvPr>
        </p:nvSpPr>
        <p:spPr>
          <a:xfrm>
            <a:off x="3430080" y="6145200"/>
            <a:ext cx="1544760" cy="1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8"/>
          </p:nvPr>
        </p:nvSpPr>
        <p:spPr>
          <a:xfrm>
            <a:off x="3430080" y="6400800"/>
            <a:ext cx="1544760" cy="1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22B9-3426-40AD-A717-BFFD1C83264F}" type="slidenum"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3120" y="1771560"/>
            <a:ext cx="7772400" cy="13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EC-E7830 Value Network Design for Internet</a:t>
            </a:r>
            <a:br>
              <a:rPr sz="3600"/>
            </a:br>
            <a:endParaRPr b="1" lang="en-US" sz="36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73120" y="3143160"/>
            <a:ext cx="6284880" cy="23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Case Last Mile </a:t>
            </a:r>
            <a:r>
              <a:rPr b="0" lang="mr-IN" sz="2400" spc="-1" strike="noStrike">
                <a:solidFill>
                  <a:srgbClr val="ffffff"/>
                </a:solidFill>
                <a:latin typeface="Georgia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Abloy Intelligent 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Marwa Al Jub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Mcha Kha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Annukka Karpp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Jukka Mäk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SELLING THE ACCESS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loy sells the access to the delivery companies in a form of an application or softwar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loy builds the lock systems to the lobbies and the customers pay for it, not the delivery comp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3120" y="5173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TARGET THE CUSTOMER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l the boxes to the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the customer to agree about the access and the delivery with the delivery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xes could be used as anything e.g. mail box, means to store goods temporarily, offer Foodora or Wolt to use it as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dom to the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TARGET THE DELIVERY COMPANY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l the boxes to the delivery companies and let them implement their own acces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, the delivery companies already have tracking system that work with bar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loy doesn’t interfere with the end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</a:rPr>
              <a:t>Plausible scenarios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479320" y="1150920"/>
            <a:ext cx="15382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95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8b81"/>
                </a:solidFill>
                <a:latin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68720" y="1150560"/>
            <a:ext cx="194472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95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8b81"/>
                </a:solidFill>
                <a:latin typeface="Arial"/>
              </a:rPr>
              <a:t>Delivery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yöristetty suorakulmio 9"/>
          <p:cNvSpPr/>
          <p:nvPr/>
        </p:nvSpPr>
        <p:spPr>
          <a:xfrm>
            <a:off x="1612800" y="1341360"/>
            <a:ext cx="2737080" cy="2117880"/>
          </a:xfrm>
          <a:prstGeom prst="roundRect">
            <a:avLst>
              <a:gd name="adj" fmla="val 16667"/>
            </a:avLst>
          </a:prstGeom>
          <a:solidFill>
            <a:srgbClr val="009b3a"/>
          </a:solidFill>
          <a:ln w="25560">
            <a:solidFill>
              <a:srgbClr val="007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  <a:ea typeface="Arial"/>
              </a:rPr>
              <a:t>Abloy starts delivering to their intelligent lock bo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yöristetty suorakulmio 10"/>
          <p:cNvSpPr/>
          <p:nvPr/>
        </p:nvSpPr>
        <p:spPr>
          <a:xfrm>
            <a:off x="1619280" y="3564000"/>
            <a:ext cx="2736720" cy="1881000"/>
          </a:xfrm>
          <a:prstGeom prst="roundRect">
            <a:avLst>
              <a:gd name="adj" fmla="val 16667"/>
            </a:avLst>
          </a:prstGeom>
          <a:solidFill>
            <a:srgbClr val="beb9b3"/>
          </a:solidFill>
          <a:ln w="25560">
            <a:solidFill>
              <a:srgbClr val="6f68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l the intelligent lock boxes and doors to the 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yöristetty suorakulmio 11"/>
          <p:cNvSpPr/>
          <p:nvPr/>
        </p:nvSpPr>
        <p:spPr>
          <a:xfrm>
            <a:off x="4573440" y="3564000"/>
            <a:ext cx="2735280" cy="1881000"/>
          </a:xfrm>
          <a:prstGeom prst="roundRect">
            <a:avLst>
              <a:gd name="adj" fmla="val 16667"/>
            </a:avLst>
          </a:prstGeom>
          <a:solidFill>
            <a:srgbClr val="beb9b3"/>
          </a:solidFill>
          <a:ln w="25560">
            <a:solidFill>
              <a:srgbClr val="6f68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ling the box systems to the delivery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yöristetty suorakulmio 12"/>
          <p:cNvSpPr/>
          <p:nvPr/>
        </p:nvSpPr>
        <p:spPr>
          <a:xfrm>
            <a:off x="4573440" y="1341360"/>
            <a:ext cx="2735280" cy="2098800"/>
          </a:xfrm>
          <a:prstGeom prst="roundRect">
            <a:avLst>
              <a:gd name="adj" fmla="val 16667"/>
            </a:avLst>
          </a:prstGeom>
          <a:solidFill>
            <a:srgbClr val="009b3a"/>
          </a:solidFill>
          <a:ln w="25560">
            <a:solidFill>
              <a:srgbClr val="007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ling the intelligent lock service for the delivery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loy builds the boxes to lobb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kstin paikkamerkki 4"/>
          <p:cNvSpPr/>
          <p:nvPr/>
        </p:nvSpPr>
        <p:spPr>
          <a:xfrm>
            <a:off x="790560" y="2209680"/>
            <a:ext cx="170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ts val="9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8b81"/>
                </a:solidFill>
                <a:latin typeface="Arial"/>
                <a:ea typeface="Arial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kstin paikkamerkki 4"/>
          <p:cNvSpPr/>
          <p:nvPr/>
        </p:nvSpPr>
        <p:spPr>
          <a:xfrm>
            <a:off x="698400" y="4313160"/>
            <a:ext cx="17020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ts val="9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8b81"/>
                </a:solidFill>
                <a:latin typeface="Arial"/>
                <a:ea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4219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</a:rPr>
              <a:t>Cashflow direction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66560" y="1108080"/>
            <a:ext cx="15382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95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8b81"/>
                </a:solidFill>
                <a:latin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749920" y="1080720"/>
            <a:ext cx="207000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95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8b81"/>
                </a:solidFill>
                <a:latin typeface="Arial"/>
              </a:rPr>
              <a:t>Delivery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yöristetty suorakulmio 9"/>
          <p:cNvSpPr/>
          <p:nvPr/>
        </p:nvSpPr>
        <p:spPr>
          <a:xfrm>
            <a:off x="1042920" y="1413000"/>
            <a:ext cx="3673440" cy="2117520"/>
          </a:xfrm>
          <a:prstGeom prst="roundRect">
            <a:avLst>
              <a:gd name="adj" fmla="val 16667"/>
            </a:avLst>
          </a:prstGeom>
          <a:solidFill>
            <a:srgbClr val="009b3a"/>
          </a:solidFill>
          <a:ln w="25560">
            <a:solidFill>
              <a:srgbClr val="007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  <a:ea typeface="Arial"/>
              </a:rPr>
              <a:t>BOX customer -&gt; Abl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  <a:ea typeface="Arial"/>
              </a:rPr>
              <a:t>DELIVERY customer -&gt; Abl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  <a:ea typeface="Arial"/>
              </a:rPr>
              <a:t>ACCESS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yöristetty suorakulmio 10"/>
          <p:cNvSpPr/>
          <p:nvPr/>
        </p:nvSpPr>
        <p:spPr>
          <a:xfrm>
            <a:off x="968400" y="3638520"/>
            <a:ext cx="3747960" cy="1881360"/>
          </a:xfrm>
          <a:prstGeom prst="roundRect">
            <a:avLst>
              <a:gd name="adj" fmla="val 16667"/>
            </a:avLst>
          </a:prstGeom>
          <a:solidFill>
            <a:srgbClr val="009b3a"/>
          </a:solidFill>
          <a:ln w="25560">
            <a:solidFill>
              <a:srgbClr val="007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X Customer -&gt; Abl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Y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yöristetty suorakulmio 11"/>
          <p:cNvSpPr/>
          <p:nvPr/>
        </p:nvSpPr>
        <p:spPr>
          <a:xfrm>
            <a:off x="4842000" y="3632040"/>
            <a:ext cx="3886200" cy="1881360"/>
          </a:xfrm>
          <a:prstGeom prst="roundRect">
            <a:avLst>
              <a:gd name="adj" fmla="val 16667"/>
            </a:avLst>
          </a:prstGeom>
          <a:solidFill>
            <a:srgbClr val="009b3a"/>
          </a:solidFill>
          <a:ln w="25560">
            <a:solidFill>
              <a:srgbClr val="007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X Delivery -&gt; Abl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Y  Customer -&gt;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customer -&gt; delivery (not our concer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yöristetty suorakulmio 12"/>
          <p:cNvSpPr/>
          <p:nvPr/>
        </p:nvSpPr>
        <p:spPr>
          <a:xfrm>
            <a:off x="4819680" y="1413000"/>
            <a:ext cx="3887640" cy="2098440"/>
          </a:xfrm>
          <a:prstGeom prst="roundRect">
            <a:avLst>
              <a:gd name="adj" fmla="val 16667"/>
            </a:avLst>
          </a:prstGeom>
          <a:solidFill>
            <a:srgbClr val="009b3a"/>
          </a:solidFill>
          <a:ln w="25560">
            <a:solidFill>
              <a:srgbClr val="007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X customer -&gt; Abl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Y customer -&gt;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Delivery -&gt; Abl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kstin paikkamerkki 4"/>
          <p:cNvSpPr/>
          <p:nvPr/>
        </p:nvSpPr>
        <p:spPr>
          <a:xfrm>
            <a:off x="200160" y="2462040"/>
            <a:ext cx="7920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ts val="9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8b81"/>
                </a:solidFill>
                <a:latin typeface="Arial"/>
                <a:ea typeface="Arial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kstin paikkamerkki 4"/>
          <p:cNvSpPr/>
          <p:nvPr/>
        </p:nvSpPr>
        <p:spPr>
          <a:xfrm>
            <a:off x="162000" y="4437000"/>
            <a:ext cx="7887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ts val="9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8b81"/>
                </a:solidFill>
                <a:latin typeface="Arial"/>
                <a:ea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65200" y="24919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</a:rPr>
              <a:t>Any Questions?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413160" y="3382920"/>
            <a:ext cx="22924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95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928b81"/>
                </a:solidFill>
                <a:latin typeface="Arial"/>
              </a:rPr>
              <a:t>Thank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</a:rPr>
              <a:t>Case description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73120" y="1341360"/>
            <a:ext cx="79884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cket Delivery by using intelligent 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the moment only 33% of the packet deliveries success to reach the customer at the first 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The customers aren’t at home when the packet is deli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ation within 1-2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fe cycle more than 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loting in Fi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in Germany the packets can be given to the neighbour </a:t>
            </a:r>
            <a:r>
              <a:rPr b="0" lang="mr-IN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Finland only 3 out of 1000 said they could let the neighbour to receive the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2760" y="488520"/>
            <a:ext cx="48625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</a:rPr>
              <a:t>Technological background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2760" y="1584000"/>
            <a:ext cx="48625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loy has existing pilot, standalone 10 locker system with central control pa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ale Doorman is an electric lock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sible to open with code, tag, and remote ke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peration with Veri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0" y="6145200"/>
            <a:ext cx="1703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928b81"/>
              </a:solidFill>
              <a:latin typeface="Arial"/>
            </a:endParaRPr>
          </a:p>
        </p:txBody>
      </p:sp>
      <p:pic>
        <p:nvPicPr>
          <p:cNvPr id="181" name="Kuva 1" descr=""/>
          <p:cNvPicPr/>
          <p:nvPr/>
        </p:nvPicPr>
        <p:blipFill>
          <a:blip r:embed="rId1"/>
          <a:stretch/>
        </p:blipFill>
        <p:spPr>
          <a:xfrm>
            <a:off x="5656320" y="0"/>
            <a:ext cx="3519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</a:rPr>
              <a:t>Stakeholders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iness cl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ends on the role of Abloy and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ominiums (= taloyhtiö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ckage delivery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blic facilities e.g. schools and hos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</a:rPr>
              <a:t>Trends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73120" y="119664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me deliveries are increasing because of online sho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git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mart h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ctric 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rb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fe cycle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 implementation and fast ’killing’ of the business –&gt; ag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Key uncertainties - PEST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 space and security of the intelligent lo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CONO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hancement to the economy, new business, new 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ole of Abloy vs. P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ptan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a new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CHNOLOG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echnology use among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lder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</a:rPr>
              <a:t>Scenarios: Mix of services and products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08040" y="1618920"/>
            <a:ext cx="15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95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8b81"/>
                </a:solidFill>
                <a:latin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29120" y="1649160"/>
            <a:ext cx="18734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95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8b81"/>
                </a:solidFill>
                <a:latin typeface="Arial"/>
              </a:rPr>
              <a:t>Delivery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yöristetty suorakulmio 9"/>
          <p:cNvSpPr/>
          <p:nvPr/>
        </p:nvSpPr>
        <p:spPr>
          <a:xfrm>
            <a:off x="1609560" y="1838160"/>
            <a:ext cx="2737080" cy="1874880"/>
          </a:xfrm>
          <a:prstGeom prst="roundRect">
            <a:avLst>
              <a:gd name="adj" fmla="val 16667"/>
            </a:avLst>
          </a:prstGeom>
          <a:solidFill>
            <a:srgbClr val="009b3a"/>
          </a:solidFill>
          <a:ln w="25560">
            <a:solidFill>
              <a:srgbClr val="007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  <a:ea typeface="Arial"/>
              </a:rPr>
              <a:t>ALL-IN </a:t>
            </a:r>
            <a:r>
              <a:rPr b="0" lang="mr-IN" sz="18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0" lang="fi-FI" sz="1800" spc="-1" strike="noStrike">
                <a:solidFill>
                  <a:srgbClr val="ffffff"/>
                </a:solidFill>
                <a:latin typeface="Arial"/>
                <a:ea typeface="Arial"/>
              </a:rPr>
              <a:t> BECOME A DELIVERY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yöristetty suorakulmio 10"/>
          <p:cNvSpPr/>
          <p:nvPr/>
        </p:nvSpPr>
        <p:spPr>
          <a:xfrm>
            <a:off x="1617840" y="3851280"/>
            <a:ext cx="2736720" cy="1665360"/>
          </a:xfrm>
          <a:prstGeom prst="roundRect">
            <a:avLst>
              <a:gd name="adj" fmla="val 16667"/>
            </a:avLst>
          </a:prstGeom>
          <a:solidFill>
            <a:srgbClr val="009b3a"/>
          </a:solidFill>
          <a:ln w="25560">
            <a:solidFill>
              <a:srgbClr val="007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GET THE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yöristetty suorakulmio 11"/>
          <p:cNvSpPr/>
          <p:nvPr/>
        </p:nvSpPr>
        <p:spPr>
          <a:xfrm>
            <a:off x="4500720" y="3851280"/>
            <a:ext cx="2735280" cy="1665360"/>
          </a:xfrm>
          <a:prstGeom prst="roundRect">
            <a:avLst>
              <a:gd name="adj" fmla="val 16667"/>
            </a:avLst>
          </a:prstGeom>
          <a:solidFill>
            <a:srgbClr val="009b3a"/>
          </a:solidFill>
          <a:ln w="25560">
            <a:solidFill>
              <a:srgbClr val="007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GET THE DELIVERY COMP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yöristetty suorakulmio 12"/>
          <p:cNvSpPr/>
          <p:nvPr/>
        </p:nvSpPr>
        <p:spPr>
          <a:xfrm>
            <a:off x="4500720" y="1838160"/>
            <a:ext cx="2735280" cy="1857600"/>
          </a:xfrm>
          <a:prstGeom prst="roundRect">
            <a:avLst>
              <a:gd name="adj" fmla="val 16667"/>
            </a:avLst>
          </a:prstGeom>
          <a:solidFill>
            <a:srgbClr val="009b3a"/>
          </a:solidFill>
          <a:ln w="25560">
            <a:solidFill>
              <a:srgbClr val="007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LING TH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kstin paikkamerkki 4"/>
          <p:cNvSpPr/>
          <p:nvPr/>
        </p:nvSpPr>
        <p:spPr>
          <a:xfrm>
            <a:off x="681120" y="2763720"/>
            <a:ext cx="10000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ts val="9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8b81"/>
                </a:solidFill>
                <a:latin typeface="Arial"/>
                <a:ea typeface="Arial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kstin paikkamerkki 4"/>
          <p:cNvSpPr/>
          <p:nvPr/>
        </p:nvSpPr>
        <p:spPr>
          <a:xfrm>
            <a:off x="682560" y="4673520"/>
            <a:ext cx="10796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ts val="9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8b81"/>
                </a:solidFill>
                <a:latin typeface="Arial"/>
                <a:ea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</a:rPr>
              <a:t>Scenarios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385720" y="1160640"/>
            <a:ext cx="15382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95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8b81"/>
                </a:solidFill>
                <a:latin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91040" y="1160280"/>
            <a:ext cx="19447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95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8b81"/>
                </a:solidFill>
                <a:latin typeface="Arial"/>
              </a:rPr>
              <a:t>Delivery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yöristetty suorakulmio 9"/>
          <p:cNvSpPr/>
          <p:nvPr/>
        </p:nvSpPr>
        <p:spPr>
          <a:xfrm>
            <a:off x="1612800" y="1341360"/>
            <a:ext cx="2737080" cy="2117880"/>
          </a:xfrm>
          <a:prstGeom prst="roundRect">
            <a:avLst>
              <a:gd name="adj" fmla="val 16667"/>
            </a:avLst>
          </a:prstGeom>
          <a:solidFill>
            <a:srgbClr val="009b3a"/>
          </a:solidFill>
          <a:ln w="25560">
            <a:solidFill>
              <a:srgbClr val="007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  <a:ea typeface="Arial"/>
              </a:rPr>
              <a:t>Abloy starts delivering to their intelligent lock bo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yöristetty suorakulmio 10"/>
          <p:cNvSpPr/>
          <p:nvPr/>
        </p:nvSpPr>
        <p:spPr>
          <a:xfrm>
            <a:off x="1619280" y="3564000"/>
            <a:ext cx="2736720" cy="1881000"/>
          </a:xfrm>
          <a:prstGeom prst="roundRect">
            <a:avLst>
              <a:gd name="adj" fmla="val 16667"/>
            </a:avLst>
          </a:prstGeom>
          <a:solidFill>
            <a:srgbClr val="009b3a"/>
          </a:solidFill>
          <a:ln w="25560">
            <a:solidFill>
              <a:srgbClr val="007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l the intelligent lock boxes and doors to the 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yöristetty suorakulmio 11"/>
          <p:cNvSpPr/>
          <p:nvPr/>
        </p:nvSpPr>
        <p:spPr>
          <a:xfrm>
            <a:off x="4573440" y="3564000"/>
            <a:ext cx="2735280" cy="1881000"/>
          </a:xfrm>
          <a:prstGeom prst="roundRect">
            <a:avLst>
              <a:gd name="adj" fmla="val 16667"/>
            </a:avLst>
          </a:prstGeom>
          <a:solidFill>
            <a:srgbClr val="009b3a"/>
          </a:solidFill>
          <a:ln w="25560">
            <a:solidFill>
              <a:srgbClr val="007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ling the box systems to the delivery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yöristetty suorakulmio 12"/>
          <p:cNvSpPr/>
          <p:nvPr/>
        </p:nvSpPr>
        <p:spPr>
          <a:xfrm>
            <a:off x="4573440" y="1341360"/>
            <a:ext cx="2735280" cy="2098800"/>
          </a:xfrm>
          <a:prstGeom prst="roundRect">
            <a:avLst>
              <a:gd name="adj" fmla="val 16667"/>
            </a:avLst>
          </a:prstGeom>
          <a:solidFill>
            <a:srgbClr val="009b3a"/>
          </a:solidFill>
          <a:ln w="25560">
            <a:solidFill>
              <a:srgbClr val="007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ling the intelligent lock service for the delivery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loy builds the boxes to lobb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kstin paikkamerkki 4"/>
          <p:cNvSpPr/>
          <p:nvPr/>
        </p:nvSpPr>
        <p:spPr>
          <a:xfrm>
            <a:off x="826920" y="2287440"/>
            <a:ext cx="170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ts val="9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8b81"/>
                </a:solidFill>
                <a:latin typeface="Arial"/>
                <a:ea typeface="Arial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kstin paikkamerkki 4"/>
          <p:cNvSpPr/>
          <p:nvPr/>
        </p:nvSpPr>
        <p:spPr>
          <a:xfrm>
            <a:off x="709560" y="4162320"/>
            <a:ext cx="17017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ts val="9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8b81"/>
                </a:solidFill>
                <a:latin typeface="Arial"/>
                <a:ea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ALL-IN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bloy sells the boxes to the consumers and subcontracts the delivery to a delivery company. The delivery company would work under abloys name. Consumer only pays for Ablo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bloy will become a delivery company itself (in the future) --&gt; requires huge investments and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4:12:18Z</dcterms:created>
  <dc:creator>jokariko</dc:creator>
  <dc:description/>
  <dc:language>en-US</dc:language>
  <cp:lastModifiedBy>Annukka Karppinen</cp:lastModifiedBy>
  <dcterms:modified xsi:type="dcterms:W3CDTF">2017-02-06T15:14:49Z</dcterms:modified>
  <cp:revision>43</cp:revision>
  <dc:subject/>
  <dc:title>S-38.3046 Value Network Design for Intern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vTieturiVerId">
    <vt:lpwstr>002</vt:lpwstr>
  </property>
</Properties>
</file>