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ECD14-4663-4805-896F-117EB34632CF}" type="slidenum">
              <a:rPr b="0" lang="fi-FI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3EC11F-3A6F-493C-B44B-6FA49B0E5D4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Well-adjusted risk for initial implementat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The physical space, right size for the box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A46E15-5723-4373-B372-1BF01BFC35C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84E01-47C7-429D-9CB2-7F86B619E3E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nd-user application usabilit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oftware design with latest methodology allowing future growth and ext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egarding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ox size, opening method / u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AA – autentication, auth,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C6A01F-7F0C-4A28-9C94-2666893928F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efining key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etwork ope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hether new delivery companies can join or n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etwork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f organization network is simple, the technological complexity of one role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etwork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ho is in charge of the customer and packag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in party forming contracts with all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mmunication between key 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A41E10-9C05-48F1-9437-B416FFBBF02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rofitability for each partner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ivision and valuation of costs and reven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sts : manufacturing boxes and systems,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evenues : customer usage / membership fees, partner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cceptable price for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ackage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ricing method for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onthly fee, pay per packet, or smth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ivision of cost upon the customer and provi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How much one pays for the box and implementing the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216597-C2E1-40DD-8039-47367A91CB0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70B5DF-D5AF-45E1-BA87-272DF708ED4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delivery company can’t reach the customer by a phone c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mr-IN" sz="1200" spc="-1" strike="noStrike">
                <a:solidFill>
                  <a:srgbClr val="000000"/>
                </a:solidFill>
                <a:latin typeface="Arial"/>
                <a:ea typeface="Mangal"/>
              </a:rPr>
              <a:t>–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y don’t reach the customer or the delivery company doesn’t have time to c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4EBCFE-AB54-4C5F-8A59-A2AE0BB1BA3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rter’s 5 forces as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ll are strong locally on their home markets and also have international presence. The Asian market holds many smaller competitors, none of which holds a dominant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414A08-B2FE-49DD-820B-F0563B7F907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A56B3A-3CD5-4F03-AD9E-F1864DE1459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2D3A7-0D83-44CD-B193-40C957E4A25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9FDAB7-5BA1-4303-8C7B-3D5F9897EDE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hat are the organizations that have to be involved in delivering the service concept? What are the organizational arrangements? What is the value network structu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46396F-EC6F-4669-80B5-7C3C025FB41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es the service yield sufficient revenues for all the parties involved to be compensated for their efforts, costs and risk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E18DA1-4EF6-4A35-8AD8-C160E2AC975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agerness to buy the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4A9A50-7C4A-470C-9FFC-40F199CFDFD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2C9E-BF81-4D86-BDF4-8BE5C4C8F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1D34-F42E-47FA-B01B-3DEA5AB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CA7A-A193-4C9D-897B-46F7D8C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312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348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276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312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348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38B6-086B-48DB-B9B5-8BB569A68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2760" y="488520"/>
            <a:ext cx="7986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0A89-1727-4615-B131-7331D3BB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312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348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276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312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348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C119-9577-4805-B0AC-722A05F3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2760" y="488520"/>
            <a:ext cx="7986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312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348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276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312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348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6F03-EA7B-4AF1-9BE3-842261E9D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C4D0-9E2F-4F3A-B3D5-9E5BAE7D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9365-1846-48F6-B905-95A0FDE2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9F10-0718-469E-BB3E-16475277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5E43-1920-4876-8C4F-AFB2D071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E3C0-91CB-4BF7-8020-B5EDB745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2760" y="488520"/>
            <a:ext cx="7986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1C1-CB96-4838-A01E-0E9B01A5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D13-0838-4723-A443-7BEB931E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9B64-D2DA-4920-96B2-3DA505E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748D-7863-4711-B98B-CB13BFB0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0C6F-84A0-4C63-811F-4FEA55E3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6E68-5723-42A3-A085-10A7D766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312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3480" y="158400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276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312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3480" y="3743280"/>
            <a:ext cx="257148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AB54-0D8E-432E-8540-F537F0678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6783-F1DC-43C8-A1AC-6A371938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2760" y="488520"/>
            <a:ext cx="7986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0C03-A042-49DD-8796-27E2A53F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5FA5-60AC-4AB8-B5D5-34F3EC12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74328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0105-5075-4810-B87E-4EBBF8D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276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584000"/>
            <a:ext cx="3897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2760" y="3743280"/>
            <a:ext cx="79866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C7FF-1A1D-428C-B04B-EA3535FA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30080" y="6275520"/>
            <a:ext cx="154332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03/07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43044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430080" y="6400800"/>
            <a:ext cx="154332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6819E4-7C49-4752-BC8E-F8FD9C19D5D2}" type="slidenum">
              <a: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71680" y="5813280"/>
            <a:ext cx="7988040" cy="65160"/>
          </a:xfrm>
          <a:prstGeom prst="rect">
            <a:avLst/>
          </a:prstGeom>
          <a:solidFill>
            <a:srgbClr val="ff7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6440" y="1712880"/>
            <a:ext cx="8326440" cy="392112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2862000" y="5960880"/>
            <a:ext cx="202572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  <a:ea typeface="Segoe UI"/>
              </a:rPr>
              <a:t>03/07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2862000" y="5960880"/>
            <a:ext cx="202572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  <a:ea typeface="Segoe UI"/>
              </a:rPr>
              <a:t>03/07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6440" y="406440"/>
            <a:ext cx="8326440" cy="54720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7986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72760" y="1584000"/>
            <a:ext cx="7986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5"/>
          </p:nvPr>
        </p:nvSpPr>
        <p:spPr>
          <a:xfrm>
            <a:off x="3430080" y="6275520"/>
            <a:ext cx="154332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03/07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044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3430080" y="6400800"/>
            <a:ext cx="154332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802452-4C21-480C-B8D3-39BA672794D0}" type="slidenum">
              <a:rPr b="1" lang="en-US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73120" y="1771560"/>
            <a:ext cx="7772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Microsoft YaHei"/>
              </a:rPr>
              <a:t>ELEC-E7830 Value Network Design for Internet - STOF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3120" y="3143160"/>
            <a:ext cx="62848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Microsoft YaHei"/>
              </a:rPr>
              <a:t>Case Last Mile </a:t>
            </a:r>
            <a:r>
              <a:rPr b="0" lang="mr-IN" sz="2400" spc="-1" strike="noStrike">
                <a:solidFill>
                  <a:srgbClr val="ffffff"/>
                </a:solidFill>
                <a:latin typeface="Georgia"/>
                <a:ea typeface="Microsoft YaHei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Microsoft YaHei"/>
              </a:rPr>
              <a:t> Abloy Intelligent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Microsoft YaHei"/>
              </a:rPr>
              <a:t>Marwa Al Ju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Microsoft YaHei"/>
              </a:rPr>
              <a:t>Mcha K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Microsoft YaHei"/>
              </a:rPr>
              <a:t>Annukka Karpp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Microsoft YaHei"/>
              </a:rPr>
              <a:t>Jukka Mäk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73120" y="488880"/>
            <a:ext cx="7988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ff7900"/>
                </a:solidFill>
                <a:latin typeface="Arial"/>
                <a:ea typeface="Microsoft YaHei"/>
              </a:rPr>
              <a:t>Critical Success Factors for network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3120" y="1197000"/>
            <a:ext cx="7988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lear Division of roles: box systems and packag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cceptable profitability vs.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Robust software functionality between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Real-time Synchronized Box and packag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-operative collaborating in value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73120" y="488880"/>
            <a:ext cx="7988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CDI’s in Service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584360"/>
          <a:ext cx="8641800" cy="4131720"/>
        </p:xfrm>
        <a:graphic>
          <a:graphicData uri="http://schemas.openxmlformats.org/drawingml/2006/table">
            <a:tbl>
              <a:tblPr/>
              <a:tblGrid>
                <a:gridCol w="2880000"/>
                <a:gridCol w="2808720"/>
                <a:gridCol w="295308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Design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9180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ing the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he service needs to be formed to solve the problem efficientl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standing the case &amp; having th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6429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ng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create value for end use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expectations vs. technological possi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6433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ng the most frequent use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shoppers vs. other needs, elderly peop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1908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ing &amp;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evolve from locking to smart delivery service enabler in the eyes of custom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package delvery enabler vs. traditional locking compa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Acquisi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build the trus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&amp;Utility vs.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514512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73120" y="488880"/>
            <a:ext cx="7988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CDI’s in Technology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24000" y="1584360"/>
          <a:ext cx="8641800" cy="4681080"/>
        </p:xfrm>
        <a:graphic>
          <a:graphicData uri="http://schemas.openxmlformats.org/drawingml/2006/table">
            <a:tbl>
              <a:tblPr/>
              <a:tblGrid>
                <a:gridCol w="2519640"/>
                <a:gridCol w="3169080"/>
                <a:gridCol w="295308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Design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6429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the box systems connected or no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lone vs. connected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9180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protocols to use and ensure authenticated access to mail box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mplexity vs. ease of us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6433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ynchronized realtime inform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 vs.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917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allow the use of service for varying target gro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vs flexible authentication / box access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11912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aS Software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implement the software to provide all the needed tools for delivery compan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-richness vs. lightweight and simpl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3120" y="488880"/>
            <a:ext cx="7988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CDI’s in Organizatio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4000" y="1584360"/>
          <a:ext cx="8641800" cy="3309480"/>
        </p:xfrm>
        <a:graphic>
          <a:graphicData uri="http://schemas.openxmlformats.org/drawingml/2006/table">
            <a:tbl>
              <a:tblPr/>
              <a:tblGrid>
                <a:gridCol w="2592720"/>
                <a:gridCol w="3096000"/>
                <a:gridCol w="295308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Design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6433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ing key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election of delivery compani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of roles vs. profi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6429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Open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new delivery companies allowed to join or no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vs. open standard-bas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9183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 and technology complexity increase as more parties are invol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reduce complexity vs. need to access technologic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73120" y="488880"/>
            <a:ext cx="7988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CDI’s in Finance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584360"/>
          <a:ext cx="8641800" cy="3765240"/>
        </p:xfrm>
        <a:graphic>
          <a:graphicData uri="http://schemas.openxmlformats.org/drawingml/2006/table">
            <a:tbl>
              <a:tblPr/>
              <a:tblGrid>
                <a:gridCol w="2880000"/>
                <a:gridCol w="2808720"/>
                <a:gridCol w="295308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Design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9180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 for each part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of costs and revenues between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s and invest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6433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to get reputation with low price or max pro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9180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time-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long contracts are done and how it affects competition and pric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risk and profit vs comfortability in long term with no price chang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917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 price for the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package delivery and box systems to be bough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led montly service fee or separate pric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3120" y="488880"/>
            <a:ext cx="7988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STOF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3120" y="1197000"/>
            <a:ext cx="8175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Business model i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Few roles to be ful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lear and big areas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Possibility to gain big reven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Requires that idea is adopted by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512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4680" y="4076640"/>
            <a:ext cx="7988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3120" y="488880"/>
            <a:ext cx="7988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Cas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1353960"/>
            <a:ext cx="7988400" cy="43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Package Delivery last mile problem (33% 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Target segment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mall to mid-size packages (*50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elivery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.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. Central point (e.g. shopping cent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IP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HTTP RE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for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party compan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355428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73120" y="488880"/>
            <a:ext cx="7988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Competition (Fin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353960"/>
            <a:ext cx="7988400" cy="43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Substit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P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New entr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Courier servic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DHL, DB Schenker, UPS, TNT,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Suppli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Box and lock parts, (collaboraVeris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Bu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Small from end-users’ perspe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Globally 5, all strong locally, also international pres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Ingersoll-Rand (USA), Stanley Black &amp; Decker (USA), Dorma (Germany), Kaba Group (Switzerland) and Hörmann (German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Asian market: small competitors, no dominant sh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38520" y="44280"/>
            <a:ext cx="461340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73120" y="488880"/>
            <a:ext cx="2846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Locking Company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512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3906720"/>
            <a:ext cx="2085840" cy="1322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427356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73120" y="488880"/>
            <a:ext cx="7988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Quick Scan – Service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3120" y="1584360"/>
            <a:ext cx="79884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ncept: Ensuring the packet delivery with the help of electric locking mail box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ustomer added val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ey value is ensuring the packet receivement at first try as easy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igital delivery software: packet tracking, customer service, other feature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ase of use &amp; Saved time: no scheduling problems and close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afety: locked package storage, with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Flexibility: Possibility to allow another person to collect the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3120" y="488880"/>
            <a:ext cx="7988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Quick Scan – Technology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3120" y="1341360"/>
            <a:ext cx="457524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re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lectric locks and mail box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Box system management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uthentication, Authorization,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ackage delivery software (Sa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nd-use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1341360"/>
            <a:ext cx="3962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x systems located anywhere in whole country, an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ansion to oth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missions to open the box for  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party: friend, neigh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dditional services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mart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lderly health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gislativ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73120" y="488880"/>
            <a:ext cx="7988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Quick Scan – Organizatio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3120" y="1584360"/>
            <a:ext cx="79884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rganizations involved in delivering the service 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bloy (locking comp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livery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Network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rganizational Arrang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greements between locking &amp; delivery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Network Provider &amp; Locking company (SLA, ensured avail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Value network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VNC: Locking company drive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Value flow between locking and delivery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73120" y="488880"/>
            <a:ext cx="7988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  <a:ea typeface="Microsoft YaHei"/>
              </a:rPr>
              <a:t>Quick Scan – Finance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3120" y="1197000"/>
            <a:ext cx="7988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ufficient revenue to cover efforts, costs and risks, for all the parti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evenu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elling soft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elling box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Delivery fe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Advertisement space (boxes and applicatio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Cost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Box and box system manufacturing, installation and mainten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oftware implem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ackage deliv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etwork conne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is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Demand / success of the new ser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Co-operation between key play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rice for end-us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</a:t>
            </a:r>
            <a:r>
              <a:rPr b="0" lang="en-GB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Finding balance between box and delivery price vs. competing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3120" y="488880"/>
            <a:ext cx="8391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ff7900"/>
                </a:solidFill>
                <a:latin typeface="Arial"/>
                <a:ea typeface="Microsoft YaHei"/>
              </a:rPr>
              <a:t>Critical Success Factors for custome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3120" y="1197000"/>
            <a:ext cx="7988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t is all about balancing with the positive and negative issues on the customer side, that customer value is bigger than price and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dea of Revolutionized replacement of old package delivery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llowed package sizes adjusted to end-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User Perceived Value (quality &amp; usability) overcoming price challe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ssured Service Quality: Reliability and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12:18Z</dcterms:created>
  <dc:creator>jokariko</dc:creator>
  <dc:description/>
  <dc:language>en-US</dc:language>
  <cp:lastModifiedBy>J M</cp:lastModifiedBy>
  <dcterms:modified xsi:type="dcterms:W3CDTF">2017-03-06T16:51:59Z</dcterms:modified>
  <cp:revision>140</cp:revision>
  <dc:subject/>
  <dc:title>S-38.3046 Value Network Design for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2</vt:lpwstr>
  </property>
</Properties>
</file>