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16D8-0A9D-448B-BBED-159F6BCFD0FA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stat.fi/til/sutivi/2014/sutivi_2014_2014-11-06_kat_005_fi.html" TargetMode="External"/><Relationship Id="rId2" Type="http://schemas.openxmlformats.org/officeDocument/2006/relationships/hyperlink" Target="http://www.stat.fi/til/sutivi/2014/sutivi_2014_2014-11-06_kat_005_fi.html" TargetMode="External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J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3005-0C6F-4B3F-B3D0-413A6AF171C4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0255-1DBC-443C-ADCC-BF9436CF1250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J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32A2-671C-4FF3-B228-3DF23057E3A2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J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Made many alternative VNC’s, of which this was chosen for our business model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Introduce what this VNC is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nd briefly describe the other VNC’s how they differ: the technological parts are changing plac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so delivery company could take all the function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Or this company would be one, taking care of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Or lastly all the parts would be under different party, and software was produced by a separate third-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5582-60A7-42DC-8080-D2849A4F8C3B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B6EB-FAFC-45C4-B702-AA4F8868532D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nn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A57A-6918-4C6D-982F-9440CC391D1F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nn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CB4C-2D72-4F03-9086-BA5CE86DB5A2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organizations that have to be involved in delivering the service concept? What are the organizational arrangements? What is the value network structu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9948-DE3C-457C-B36F-676CBD984648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service yield sufficient revenues for all the parties involved to be compensated for their efforts, costs and risk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B0F6-EF9D-4813-9F20-541335EE56B1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gerness to buy the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6EAE-C78F-4D9E-896D-DEC8920F332F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F8F4-0542-4208-85BF-21B5DB42DB46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ll-adjusted risk for initial implementation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physical space, right size for the box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49FF-BC83-4A37-A617-CDAA346F5239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c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B683-29BF-48D0-8958-2DB274F65748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c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End-user application usability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Software design with latest methodology allowing future growth and exte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Regarding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Box size, opening method / us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AA – autentication, auth,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2D71-381C-4490-895B-3F00A8552577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J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Defining key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Network open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Whether new delivery companies can join or no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Network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If organization network is simple, the technological complexity of one role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Network gover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Who is in charge of the customer and packag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Main party forming contracts with all organiz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Communication between key p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F659-BFC1-4087-909E-BA81404B5522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J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Profitability for each partner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and valuation of costs and reven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Costs : manufacturing boxes and systems, insta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Revenues : customer usage / membership fees, partner con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cceptable price for the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Package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Pricing method for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Monthly fee, pay per packet, or smth e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Division of cost upon the customer and provid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How much one pays for the box and implementing the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ACC1-D5C0-4DDE-A262-CB9FCA4ACCF0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J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E1D9-5F39-4E6C-AE1E-E2932397F6BF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Jukk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Few weeks ago, I received Posti newsletter where I found their new servic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lmost identical idea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llows online store deliverys and returns, but they also mention food deliveries, repair and maintenence, recyc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They are advertising this to new partners, some already are t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Condominiums are the target gro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So this indcates that our idea has been pretty realistic, as it seems so if Posti has started thi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nyways, this is so recent news, that we are not likely gonna take it into account in our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E912-796D-4179-A251-4CEAB35A3F8A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J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Piloting in Finland with standalo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1FFC-AB71-4945-A8E6-0507DC0B491E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er’s 5 forces as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compan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re strong locally on their home markets and also have international presence. The Asian market holds many smaller competitors, none of which holds a dominant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AF30-A784-4277-B48B-DA60BFB8C489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EDC4-1055-4793-AF7F-53AF7A2EF9B0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ANNU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stat.fi/til/sutivi/2014/sutivi_2014_2014-11-06_kat_005_f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ing need to give the ac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-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AD80-8136-4DCE-A09A-0667F4988C24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Level of Demand: Outcomes: physical space problem changes, implementation location changes, prize chang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Demand is hig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-prize is reasonable, good usability, need for the service, package deliveries still in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-can be built to lob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Demand low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-high price, usability problem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-built mainly only to shopping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GOING DEEPER or more ABS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Find the demand point, cause maybe after certain point the users start liking it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Location of the boxes, maybe if no demand better to have it in shopping centre, or where people move the m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- you can test and prove all the possible locations and prove this i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Usability vs. price vs. demand v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Time frame, with smaller the physical space is a problem, but later might not be. (renovation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7F06-E712-4B86-BD3D-5647B4E53CBE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FF76-8462-4F9E-BEB3-3037B1D4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07F6-C946-435E-A2EA-79792AF6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8DDA-E119-461D-8150-E45D7C13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420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564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7312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420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564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654-F827-41B6-B370-82EE50B2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3120" y="488520"/>
            <a:ext cx="7988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CCFF-9421-4C7E-971C-B2B03C0F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420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564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7312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420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564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6A3-9F4F-4830-BF97-8C44A699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73120" y="488520"/>
            <a:ext cx="7988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7420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7564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7312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7420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7564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BB81F-AB8E-4BFD-AB18-62F3543D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8DF83-71D8-4F74-A0BD-037F8840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478787-24A4-4CE1-B658-55D3ACF4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9260-852C-49E9-AB1D-D0373CF3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429AB-C906-4FE2-9189-CDDE3F00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6A3B7C-DDCE-4A5E-AB43-9A3F8256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73120" y="488520"/>
            <a:ext cx="7988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05AE4-7FE6-4AB0-923E-A165B409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5C5F5-DB24-4A19-8E0E-0028CF2F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4F88E-815B-492A-8CE5-B1B9AD1F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18ADB-2F4F-4B5E-88D4-DE6CE6B9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4F8BD-8C8E-415C-84B2-9B426BA7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47742-D500-4D96-9D5B-876A98B7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7420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7564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7312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7420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7564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7DDCBC-73FE-4AD9-800E-458E9F70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E7C8-C511-40BE-ADD7-5A832B36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3120" y="488520"/>
            <a:ext cx="7988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AC8C-9B85-45FE-9B97-4A36FDD8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C63-F436-42B3-AE74-99FF9D9F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2BDC-35A3-401E-A4B5-02B4668F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BBFC-0BED-459F-89BE-8E53B9D3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Aalto_EN_Electr-Eng_13_RGB_2"/>
          <p:cNvPicPr/>
          <p:nvPr/>
        </p:nvPicPr>
        <p:blipFill>
          <a:blip r:embed="rId2"/>
          <a:stretch/>
        </p:blipFill>
        <p:spPr>
          <a:xfrm>
            <a:off x="216000" y="5815080"/>
            <a:ext cx="2519280" cy="1042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30080" y="627552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3BD8-9436-4EE9-9FFB-44C370294E17}" type="datetime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30080" y="614520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430080" y="640080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28E2-C65A-4A83-8879-4BE2C0DF9AE7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71680" y="5813280"/>
            <a:ext cx="7988040" cy="65160"/>
          </a:xfrm>
          <a:prstGeom prst="rect">
            <a:avLst/>
          </a:prstGeom>
          <a:solidFill>
            <a:srgbClr val="ff79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Aalto_EN_Electr-Eng_21_RGB_2"/>
          <p:cNvPicPr/>
          <p:nvPr/>
        </p:nvPicPr>
        <p:blipFill>
          <a:blip r:embed="rId2"/>
          <a:srcRect l="0" t="1401" r="0" b="0"/>
          <a:stretch/>
        </p:blipFill>
        <p:spPr>
          <a:xfrm>
            <a:off x="27000" y="0"/>
            <a:ext cx="2089080" cy="1924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406440" y="1712880"/>
            <a:ext cx="8326440" cy="392112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862000" y="5960880"/>
            <a:ext cx="202716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928b8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6C3E-EEE7-44D7-9B1F-8639843AFB81}" type="datetime">
              <a:rPr b="1" lang="en-US" sz="1200" spc="-1" strike="noStrike">
                <a:solidFill>
                  <a:srgbClr val="928b8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Aalto_EN_Electr-Eng_21_RGB_2"/>
          <p:cNvPicPr/>
          <p:nvPr/>
        </p:nvPicPr>
        <p:blipFill>
          <a:blip r:embed="rId2"/>
          <a:srcRect l="0" t="1401" r="0" b="0"/>
          <a:stretch/>
        </p:blipFill>
        <p:spPr>
          <a:xfrm>
            <a:off x="27000" y="0"/>
            <a:ext cx="2089080" cy="1924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2862000" y="5960880"/>
            <a:ext cx="202716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928b8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ED24-613C-4DA6-BA16-7DB12A8683C6}" type="datetime">
              <a:rPr b="1" lang="en-US" sz="1200" spc="-1" strike="noStrike">
                <a:solidFill>
                  <a:srgbClr val="928b8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Aalto_EN_Electr-Eng_13_RGB_2"/>
          <p:cNvPicPr/>
          <p:nvPr/>
        </p:nvPicPr>
        <p:blipFill>
          <a:blip r:embed="rId2"/>
          <a:stretch/>
        </p:blipFill>
        <p:spPr>
          <a:xfrm>
            <a:off x="216000" y="5815080"/>
            <a:ext cx="2519280" cy="1042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"/>
          <p:cNvSpPr/>
          <p:nvPr/>
        </p:nvSpPr>
        <p:spPr>
          <a:xfrm>
            <a:off x="406440" y="406440"/>
            <a:ext cx="8326440" cy="547200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6"/>
          </p:nvPr>
        </p:nvSpPr>
        <p:spPr>
          <a:xfrm>
            <a:off x="3430080" y="627552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B2C0-7783-4034-B51D-8AA7EE256E68}" type="datetime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7"/>
          </p:nvPr>
        </p:nvSpPr>
        <p:spPr>
          <a:xfrm>
            <a:off x="3430080" y="614520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8"/>
          </p:nvPr>
        </p:nvSpPr>
        <p:spPr>
          <a:xfrm>
            <a:off x="3430080" y="640080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5076-766C-403C-B78B-86CF6AF277C5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3120" y="1771560"/>
            <a:ext cx="777240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EC-E7830 Value Network Design for Internet</a:t>
            </a:r>
            <a:br>
              <a:rPr sz="3600"/>
            </a:br>
            <a:endParaRPr b="1" lang="en-US" sz="36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73120" y="3143160"/>
            <a:ext cx="628488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ase Last Mile </a:t>
            </a:r>
            <a:r>
              <a:rPr b="0" lang="mr-IN" sz="2400" spc="-1" strike="noStrike">
                <a:solidFill>
                  <a:srgbClr val="ffffff"/>
                </a:solidFill>
                <a:latin typeface="Georgia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Abloy Intelligent 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arwa Al Jub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cha Kha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nnukka Karpp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Jukka Mäk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Description of scenarios (1/2)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rcle of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ox system management software is sold as an extension tool for the delivery companies (API ac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ox systems with intelligent locking are sold for condominiums and for family house ow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mand for such service is very high and many new entrants will enter 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ntrants can be delivery companies implementing their own box systems or other competitiv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Description of scenarios (2/2)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Low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ox system management software is sold as an extension tool for the delivery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mand is too low to install the box systems to condominiums’ lobbie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sing shopping centres inst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Same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When there is no co-operation with the delivery companies and no demand, the situation remains as it is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2565360"/>
            <a:ext cx="798804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7900"/>
                </a:solidFill>
                <a:latin typeface="Arial"/>
              </a:rPr>
              <a:t>3. Value Network Configurations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7120" y="475920"/>
            <a:ext cx="29908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7900"/>
                </a:solidFill>
                <a:latin typeface="Arial"/>
              </a:rPr>
              <a:t>Most likely VNC:</a:t>
            </a:r>
            <a:br>
              <a:rPr sz="3200"/>
            </a:br>
            <a:r>
              <a:rPr b="0" lang="fi-FI" sz="3200" spc="-1" strike="noStrike">
                <a:solidFill>
                  <a:srgbClr val="ff7900"/>
                </a:solidFill>
                <a:latin typeface="Arial"/>
              </a:rPr>
              <a:t>Locking Company Drive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179280" y="3860640"/>
            <a:ext cx="1973520" cy="1251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" descr=""/>
          <p:cNvPicPr/>
          <p:nvPr/>
        </p:nvPicPr>
        <p:blipFill>
          <a:blip r:embed="rId2"/>
          <a:stretch/>
        </p:blipFill>
        <p:spPr>
          <a:xfrm>
            <a:off x="2050920" y="476280"/>
            <a:ext cx="711864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000" y="2565360"/>
            <a:ext cx="798804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7900"/>
                </a:solidFill>
                <a:latin typeface="Arial"/>
              </a:rPr>
              <a:t>4. STOF method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Quick Scan – Service Domai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cep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Ensuring the packet delivery with the help of electric locking mail box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ustomer added valu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 value is ensuring the packet reception at first try as easy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gital delivery software: packet tracking, customer service, other features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e of use &amp; Saved time: no scheduling problems and close to th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fety: locked package storage, with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exibility: Possibility to allow another person to collect the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Quick Scan – Technology Domai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94920" y="1219320"/>
            <a:ext cx="4575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re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ic locks and connected box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oud system implementation e.g. Amazon/Akam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x system management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ox System Mgmt &amp; Monitoring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thentication, Authorization, Accoun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ox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ivery Company systems &amp;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-REST API 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d-user software, HTTPS (SS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isällön paikkamerkki 2"/>
          <p:cNvSpPr/>
          <p:nvPr/>
        </p:nvSpPr>
        <p:spPr>
          <a:xfrm>
            <a:off x="5214960" y="1190520"/>
            <a:ext cx="396252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rmissions to open the box for  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party: friend, neighb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additional services a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mart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lderly health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egislative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Quick Scan – Organization Domai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ganizations involved in delivering the service concep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loy (locking compa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ivery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oud service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ganizational Arrang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s between locking &amp; delivery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Provider &amp; Locking company (SLA, ensured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lue network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VNC: Locking company drive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lue flow between locking and delivery comp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Quick Scan – Finance Domai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73120" y="1196640"/>
            <a:ext cx="79884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Arial"/>
              </a:rPr>
              <a:t>Sufficient revenue to cover efforts, costs and risks, for all the partie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Revenu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elling software Interface Ac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elling and installing boxes and box syste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Delivery fe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dvertisement space (boxes and application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Cost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Box and box system manufacturing, installation and mainten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oftware implement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ackage deliv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Network conne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Demand / success of the new servi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-operation between key play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rice for end-us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Finding balance between box and delivery price vs. competing servi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8391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7900"/>
                </a:solidFill>
                <a:latin typeface="Arial"/>
              </a:rPr>
              <a:t>Critical Success Factors for Customer Value</a:t>
            </a:r>
            <a:endParaRPr b="1" lang="en-US" sz="28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82480" y="1187280"/>
            <a:ext cx="79884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ll about balancing with the positive and negative issues on the customer side, that customer value is bigger than price and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a of revolutionizing the old package delive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wed box sizes adjusted to end-use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Perceived Value (quality &amp; usability) overcoming price challe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ured Service Quality: Reliability and 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73120" y="1341360"/>
            <a:ext cx="79884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as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cenario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alue Network Configu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OF view on 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7900"/>
                </a:solidFill>
                <a:latin typeface="Arial"/>
              </a:rPr>
              <a:t>Critical Success Factors for Network Value</a:t>
            </a:r>
            <a:endParaRPr b="1" lang="en-US" sz="28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3120" y="1196640"/>
            <a:ext cx="79884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r Division of roles: box systems and packag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LAs between partners to ensure the Q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ptable profitability vs.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ust software functionality between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l-time Synchronized Box and packag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-operative collaborating in value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Critical Design Issues in Service Domai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4920" y="836640"/>
          <a:ext cx="9074160" cy="5905440"/>
        </p:xfrm>
        <a:graphic>
          <a:graphicData uri="http://schemas.openxmlformats.org/drawingml/2006/table">
            <a:tbl>
              <a:tblPr/>
              <a:tblGrid>
                <a:gridCol w="1440000"/>
                <a:gridCol w="2952720"/>
                <a:gridCol w="2212920"/>
                <a:gridCol w="2468520"/>
              </a:tblGrid>
              <a:tr h="674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lancing 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cus &amp; 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</a:tr>
              <a:tr h="1112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ressing the 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the service needs to be formed to solve the problem efficientl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mand vs. challe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derstanding the case &amp; focusing on higher demand areas e.g. condomini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</a:tr>
              <a:tr h="987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ating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to create value for end user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r expectations vs. technological possib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ate modern, functional service that surprises the us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</a:tr>
              <a:tr h="988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rg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lecting the most frequent user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shoppers vs. other needs, elderly peop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rvey about the usage, focus on the big user 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</a:tr>
              <a:tr h="1284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nding &amp; 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to evolve from locking to smart delivery service enabler in the eyes of custome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ckag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er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s. traditional locking compan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nize the brand image without destroying the existing im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</a:tr>
              <a:tr h="85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Acquisi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to attract the custome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liability &amp; Utility vs.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ffer the service with a reasonable price &amp; offer qua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Critical Design Issues </a:t>
            </a:r>
            <a:r>
              <a:rPr b="1" lang="en-GB" sz="3200" spc="-1" strike="noStrike">
                <a:solidFill>
                  <a:srgbClr val="ff7900"/>
                </a:solidFill>
                <a:latin typeface="Arial"/>
              </a:rPr>
              <a:t>in Technology Domai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38240" y="1030320"/>
          <a:ext cx="8858160" cy="5638680"/>
        </p:xfrm>
        <a:graphic>
          <a:graphicData uri="http://schemas.openxmlformats.org/drawingml/2006/table">
            <a:tbl>
              <a:tblPr/>
              <a:tblGrid>
                <a:gridCol w="1512720"/>
                <a:gridCol w="2833560"/>
                <a:gridCol w="2256120"/>
                <a:gridCol w="225576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ancing 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cus &amp; 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</a:tr>
              <a:tr h="709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the box systems connected or no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lone vs.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ed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ed system with user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</a:tr>
              <a:tr h="1013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 protocols to use and ensure authenticated access to mail box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omplexity vs. ease of us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e of use but with strong authentication,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curity protocol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Inte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ust and synchronized real-time informatio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ility vs.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ing the system on a cloud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to allow the use of service for varying target group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ity vs flexible authentication / box access 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ring several authentication possibilities, e.g. expiry pin, fingerpr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</a:tr>
              <a:tr h="1317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 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to implement the software to provide all the needed tools for delivery compan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-richness vs. lightweight and simpli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 extension to already existing delivery company software, A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Critical Design Issues in Organization Domai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4920" y="1584360"/>
          <a:ext cx="9109080" cy="5013360"/>
        </p:xfrm>
        <a:graphic>
          <a:graphicData uri="http://schemas.openxmlformats.org/drawingml/2006/table">
            <a:tbl>
              <a:tblPr/>
              <a:tblGrid>
                <a:gridCol w="1368360"/>
                <a:gridCol w="2448000"/>
                <a:gridCol w="2376360"/>
                <a:gridCol w="2916360"/>
              </a:tblGrid>
              <a:tr h="744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ancing 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cus &amp; 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</a:tr>
              <a:tr h="1514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ing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election of co-operation partne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on of roles vs. profit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r agreements in division of roles to secure profitability of each part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</a:tr>
              <a:tr h="1217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Open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new delivery companies allowed to join or no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usive vs. open standard-bas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ing at first with one delivery company and later getting more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</a:tr>
              <a:tr h="153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Complex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tion complexity increase as more parties are invol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to reduce complexity vs. need to access technological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simple and modifiable platform that allow ease of access with minimum complex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3120" y="33300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Critical Design Issues in Finance Domai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4920" y="1052640"/>
          <a:ext cx="9109080" cy="5738760"/>
        </p:xfrm>
        <a:graphic>
          <a:graphicData uri="http://schemas.openxmlformats.org/drawingml/2006/table">
            <a:tbl>
              <a:tblPr/>
              <a:tblGrid>
                <a:gridCol w="1290600"/>
                <a:gridCol w="2657520"/>
                <a:gridCol w="2655720"/>
                <a:gridCol w="2505240"/>
              </a:tblGrid>
              <a:tr h="64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ancing 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cus &amp; 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ability for each partn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on of costs and revenues between partne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nues and investmen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s to secure profitability of each partner based on role and investment e.g. penalties if partner fails to meet the requir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</a:tr>
              <a:tr h="881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lev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to get reputation with low price or max profi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ize the price e.g. bundles, off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</a:tr>
              <a:tr h="1328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time-ran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long contracts are done and how it affects competition and pricing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 risk and profit vs. comfortability in long term with no price changes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initially with a reliable partner with short term contract ~2 years and then make partnership asse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</a:tr>
              <a:tr h="1081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 price for the us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package delivery and box systems to be bought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ctive offer to the user vs. company profi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service fee or separate pricing, having a shared or a dedicated bo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7560" y="4759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Additional design notes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57280" y="1196640"/>
            <a:ext cx="81756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From Intermediate solution to a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ong term adaptivity – critical for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-binding, condominium could decide how the boxes are allocated to users, active vs. passive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Food deliveries have been tr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nclude a freezing functionality to box syst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Capacity optimization probl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Flexible and dynamical configuration in box systems is ess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ow to guarantee the free space in box syst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onitoring of usage, penalties for mis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Drive for fast collect mentality of packages, rapid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7560" y="4759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Recent News!!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pic>
        <p:nvPicPr>
          <p:cNvPr id="246" name="Picture 1" descr=""/>
          <p:cNvPicPr/>
          <p:nvPr/>
        </p:nvPicPr>
        <p:blipFill>
          <a:blip r:embed="rId1"/>
          <a:stretch/>
        </p:blipFill>
        <p:spPr>
          <a:xfrm>
            <a:off x="544680" y="-27000"/>
            <a:ext cx="814536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1. Case descriptio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9884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The Case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9280" y="1353600"/>
            <a:ext cx="5472360" cy="43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enario scope 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loting in Fi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ckage Delivery problem (33% success rate) - Last M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segment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to mid-size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Condominiums (block of fla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entral locations (e.g. shopping ce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5003640" y="331920"/>
            <a:ext cx="40467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Competition (Finland)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9640" y="1269720"/>
            <a:ext cx="79884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stit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st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entr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urier servic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HL, DB Schenker, UPS, TNT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i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ox and lock parts, collaboration with Veris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mall from end-users’ perspectiv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ly 5, all strong locally, also international presen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gersoll-Rand (USA), Stanley Black &amp; Decker (USA), Dorma (Germany), Kaba Group (Switzerland) and Hörmann (Germany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ian market: small competitors, no dominant sha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https://upload.wikimedia.org/wikipedia/commons/thumb/2/2b/Elements_of_Industry_Structure.svg/350px-Elements_of_Industry_Structure.svg.png"/>
          <p:cNvPicPr/>
          <p:nvPr/>
        </p:nvPicPr>
        <p:blipFill>
          <a:blip r:embed="rId1"/>
          <a:stretch/>
        </p:blipFill>
        <p:spPr>
          <a:xfrm>
            <a:off x="4530600" y="260280"/>
            <a:ext cx="461340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2. Scenario Planning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Scenario Planning: Key uncertainties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1. Will the increasing demand for parcel services be the most important factor affecting the scale of the business? (e.g. solving space proble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2. Are the lock manufacturers and delivery companies going to co-operate to form the serv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3. 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l social interactions become (e.g. neighbors) a part of receiving parcel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4. Are the users going to accept the new servic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5. Will the people find the intelligent locking secure enoug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6. Will the intelligent locking be a part of smart home or against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Scenario Planning: Trends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73120" y="119664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me deliveries are increasing because of online sh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thing is becoming digital and the amount of digital services is increa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mart h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ric 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are moving to cities, urbaniz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 cycle businesses are more common than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 implementation and fast ’killing’ of the business –&gt; ag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3120" y="2599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Scenario Matrix 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780000" y="765000"/>
            <a:ext cx="5040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95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928b81"/>
                </a:solidFill>
                <a:latin typeface="Arial"/>
              </a:rPr>
              <a:t>Co-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yöristetty suorakulmio 9"/>
          <p:cNvSpPr/>
          <p:nvPr/>
        </p:nvSpPr>
        <p:spPr>
          <a:xfrm>
            <a:off x="1619280" y="1341360"/>
            <a:ext cx="2736720" cy="2117880"/>
          </a:xfrm>
          <a:prstGeom prst="roundRect">
            <a:avLst>
              <a:gd name="adj" fmla="val 16667"/>
            </a:avLst>
          </a:prstGeom>
          <a:solidFill>
            <a:srgbClr val="009b3a"/>
          </a:solidFill>
          <a:ln w="25560">
            <a:solidFill>
              <a:srgbClr val="007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  <a:ea typeface="Arial"/>
              </a:rPr>
              <a:t>CIRCLE OF GO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  <a:ea typeface="Arial"/>
              </a:rPr>
              <a:t>System is sold as tool for delivery company, the box systems are installed to lobb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yöristetty suorakulmio 10"/>
          <p:cNvSpPr/>
          <p:nvPr/>
        </p:nvSpPr>
        <p:spPr>
          <a:xfrm>
            <a:off x="1619280" y="3564000"/>
            <a:ext cx="2736720" cy="1881000"/>
          </a:xfrm>
          <a:prstGeom prst="roundRect">
            <a:avLst>
              <a:gd name="adj" fmla="val 16667"/>
            </a:avLst>
          </a:prstGeom>
          <a:solidFill>
            <a:srgbClr val="009b3a"/>
          </a:solidFill>
          <a:ln w="25560">
            <a:solidFill>
              <a:srgbClr val="007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LOW INTERE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System is sold as a tool, but box systems only mainly to shopping cen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yöristetty suorakulmio 11"/>
          <p:cNvSpPr/>
          <p:nvPr/>
        </p:nvSpPr>
        <p:spPr>
          <a:xfrm>
            <a:off x="4573440" y="3564000"/>
            <a:ext cx="2735280" cy="1881000"/>
          </a:xfrm>
          <a:prstGeom prst="roundRect">
            <a:avLst>
              <a:gd name="adj" fmla="val 16667"/>
            </a:avLst>
          </a:prstGeom>
          <a:solidFill>
            <a:srgbClr val="009b3a"/>
          </a:solidFill>
          <a:ln w="25560">
            <a:solidFill>
              <a:srgbClr val="007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SAME 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No future for th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yöristetty suorakulmio 12"/>
          <p:cNvSpPr/>
          <p:nvPr/>
        </p:nvSpPr>
        <p:spPr>
          <a:xfrm>
            <a:off x="4573440" y="1341360"/>
            <a:ext cx="2735280" cy="2098800"/>
          </a:xfrm>
          <a:prstGeom prst="roundRect">
            <a:avLst>
              <a:gd name="adj" fmla="val 16667"/>
            </a:avLst>
          </a:prstGeom>
          <a:solidFill>
            <a:srgbClr val="009b3a"/>
          </a:solidFill>
          <a:ln w="25560">
            <a:solidFill>
              <a:srgbClr val="007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COMPET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Someone will act! Hard competition, many alternativ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kstin paikkamerkki 4"/>
          <p:cNvSpPr/>
          <p:nvPr/>
        </p:nvSpPr>
        <p:spPr>
          <a:xfrm rot="16200000">
            <a:off x="-1114920" y="1878120"/>
            <a:ext cx="34210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9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928b81"/>
                </a:solidFill>
                <a:latin typeface="Arial"/>
                <a:ea typeface="Arial"/>
              </a:rPr>
              <a:t>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0160" y="5444640"/>
            <a:ext cx="15382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95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928b81"/>
                </a:solidFill>
                <a:latin typeface="Arial"/>
              </a:rPr>
              <a:t>Competition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95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95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928b81"/>
                </a:solidFill>
                <a:latin typeface="Arial"/>
              </a:rPr>
              <a:t>No collab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95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kstin paikkamerkki 4"/>
          <p:cNvSpPr/>
          <p:nvPr/>
        </p:nvSpPr>
        <p:spPr>
          <a:xfrm>
            <a:off x="946080" y="2139840"/>
            <a:ext cx="457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9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928b81"/>
                </a:solidFill>
                <a:latin typeface="Arial"/>
                <a:ea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kstin paikkamerkki 4"/>
          <p:cNvSpPr/>
          <p:nvPr/>
        </p:nvSpPr>
        <p:spPr>
          <a:xfrm>
            <a:off x="1027080" y="4365720"/>
            <a:ext cx="5317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9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928b81"/>
                </a:solidFill>
                <a:latin typeface="Arial"/>
                <a:ea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kstin paikkamerkki 4"/>
          <p:cNvSpPr/>
          <p:nvPr/>
        </p:nvSpPr>
        <p:spPr>
          <a:xfrm>
            <a:off x="2674800" y="981000"/>
            <a:ext cx="457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9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928b81"/>
                </a:solidFill>
                <a:latin typeface="Arial"/>
                <a:ea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kstin paikkamerkki 4"/>
          <p:cNvSpPr/>
          <p:nvPr/>
        </p:nvSpPr>
        <p:spPr>
          <a:xfrm>
            <a:off x="5913360" y="10270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9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928b81"/>
                </a:solidFill>
                <a:latin typeface="Arial"/>
                <a:ea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4:12:18Z</dcterms:created>
  <dc:creator>jokariko</dc:creator>
  <dc:description/>
  <dc:language>en-US</dc:language>
  <cp:lastModifiedBy>J M</cp:lastModifiedBy>
  <dcterms:modified xsi:type="dcterms:W3CDTF">2017-03-27T12:13:03Z</dcterms:modified>
  <cp:revision>188</cp:revision>
  <dc:subject/>
  <dc:title>S-38.3046 Value Network Design for Inter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vTieturiVerId">
    <vt:lpwstr>002</vt:lpwstr>
  </property>
</Properties>
</file>