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7AE4-7D5E-468A-A45F-41D40BC103EB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J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5D38-9724-4276-AF30-C29466C73187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Mc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CACD-7ACE-41FB-AEE7-F28309D294AA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MAR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0A59-A968-4BFD-9893-4B044A5862CB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2646-1713-4A40-8CF2-F55FED47D743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J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The delivery company can’t reach the customer by a phone call </a:t>
            </a:r>
            <a:r>
              <a:rPr b="0" lang="mr-IN" sz="1200" spc="-1" strike="noStrike">
                <a:solidFill>
                  <a:srgbClr val="000000"/>
                </a:solidFill>
                <a:latin typeface="Arial"/>
                <a:ea typeface="Mangal"/>
              </a:rPr>
              <a:t>–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they don’t reach the customer or the delivery company doesn’t have time to c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0665-DF40-4421-90BE-442B1C663D0C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J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Overall sketch we have designed for the base of the scenar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t the moment Abloy for example has only standalone mail box system, in piloting. Meaning no connection to anywhere, just local use with central panel inte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l box systems, in lobbies or shopping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oy only h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nectivity through Internet to Central platform, wired, wireless only if no wired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r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o1: mobile-optimized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o2: Mobile 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0990-965D-4ADD-8B2D-CAC402D6F5E2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Mc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Demand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(as so special that it solves the problem of physical spac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1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l boxes, (double) door, to-door delivery (Will it be a problem with integrating the physical space into buildings?)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2. It is very hard for the delivery companies to compete with smart home or electric locking companies, change a 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- BUT HOW ABOUT POSTI or the o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3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ntality change), or even re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4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.g. go the old way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7F92-78CE-472C-9D43-63E6F63F0EE4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Mch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Level of Demand: Outcomes: physical space problem changes, implementation location changes, prize changes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Demand is high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-prize is reasonable, good usability, need for the service, package deliveries still increas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-can be built to lobb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Demand low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-high price, usability problems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-built mainly only to shopping cent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GOING DEEPER or more ABSTR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Find the demand point, cause maybe after certain point the users start liking it mo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Location of the boxes, maybe if no demand better to have it in shopping centre, or where people move the mos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- you can test and prove all the possible locations and prove this is 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Usability vs. price vs. demand v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Time frame, with smaller the physical space is a problem, but later might not be. (renovation et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Technological architecture has to be well-defin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If it is really uncertain, no expert can even no, they might just have different opin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DDA5-55FC-490F-BB3D-13DD78A0263A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Mar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CAA2-2793-44C4-A7B2-20B605590488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Mar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9F2A-D9F5-4807-9485-8FE497A7FEFF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nn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013D-B6A2-4C08-938A-9015FE103EFE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nn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6DDB-6146-4703-8E3D-59625C1B1C31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3850-8737-438E-BC1C-E46D9294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153B-CB51-4C7C-8085-AD7CDD0A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1D8-8FCA-4F59-9E3C-10C180C8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420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564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7312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420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564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9E4-62FF-4DAD-A4E7-C6CC2E28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3120" y="488520"/>
            <a:ext cx="7988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EC5-922B-4916-A201-11BBDB4E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420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564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312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420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564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CBB-3C41-459D-8EC6-DE0DF5B1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73120" y="488520"/>
            <a:ext cx="7988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7420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7564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7312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7420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7564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3BACA-DE07-4C55-A452-A9E494FB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040DFF-4959-4839-A2AC-CEC052BC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BBBEF2-3028-4BBB-BF1A-DBFE0946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79F-CBDF-41B1-999C-7D56EAC6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09C27-0842-463F-81E4-0792CEED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3E0EA-8AC4-42DE-9255-DBA27D68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73120" y="488520"/>
            <a:ext cx="7988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51380-4579-4171-AAC1-401937D0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FF0AE9-5BE8-451F-A227-10F08CC7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81ABA-B171-45D7-B12F-C7E20D4A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0C5AA-D9F8-463F-BCA7-F46DC00A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DC5E2-9DE5-410B-9DA5-0BAF3C40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BD651-431D-4DD1-A6CF-517F1CAD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7420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7564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7312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7420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7564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33C2D-FFA2-415C-B639-B3CCAF65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2835-4EB9-4183-AF84-D6D57D4D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3120" y="488520"/>
            <a:ext cx="7988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A3C-7439-4EE5-93B2-7181A570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4A3-F867-4E23-97B9-73365D43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8F3-436A-4BB3-B46F-2F09D019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3EE-C2BE-4D35-B536-DA88DDC1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Aalto_EN_Electr-Eng_13_RGB_2"/>
          <p:cNvPicPr/>
          <p:nvPr/>
        </p:nvPicPr>
        <p:blipFill>
          <a:blip r:embed="rId2"/>
          <a:stretch/>
        </p:blipFill>
        <p:spPr>
          <a:xfrm>
            <a:off x="216000" y="5815080"/>
            <a:ext cx="2519280" cy="1042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30080" y="627552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C2B4-1656-4A39-8272-40B34E467036}" type="datetime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30080" y="614520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430080" y="640080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E12F-FDDD-469F-84BE-78FB2BE749A7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71680" y="5813280"/>
            <a:ext cx="7988040" cy="65160"/>
          </a:xfrm>
          <a:prstGeom prst="rect">
            <a:avLst/>
          </a:prstGeom>
          <a:solidFill>
            <a:srgbClr val="ff79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Aalto_EN_Electr-Eng_21_RGB_2"/>
          <p:cNvPicPr/>
          <p:nvPr/>
        </p:nvPicPr>
        <p:blipFill>
          <a:blip r:embed="rId2"/>
          <a:srcRect l="0" t="1401" r="0" b="0"/>
          <a:stretch/>
        </p:blipFill>
        <p:spPr>
          <a:xfrm>
            <a:off x="27000" y="0"/>
            <a:ext cx="2089080" cy="1924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406440" y="1712880"/>
            <a:ext cx="8326440" cy="392112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862000" y="5960880"/>
            <a:ext cx="202716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EEC4-4DAF-4C77-B577-CDC76291C95B}" type="datetime">
              <a:rPr b="1" lang="en-US" sz="1200" spc="-1" strike="noStrike">
                <a:solidFill>
                  <a:srgbClr val="928b8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Aalto_EN_Electr-Eng_21_RGB_2"/>
          <p:cNvPicPr/>
          <p:nvPr/>
        </p:nvPicPr>
        <p:blipFill>
          <a:blip r:embed="rId2"/>
          <a:srcRect l="0" t="1401" r="0" b="0"/>
          <a:stretch/>
        </p:blipFill>
        <p:spPr>
          <a:xfrm>
            <a:off x="27000" y="0"/>
            <a:ext cx="2089080" cy="1924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2862000" y="5960880"/>
            <a:ext cx="202716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6D64-3FBA-42EB-B23D-4CD0B29E441E}" type="datetime">
              <a:rPr b="1" lang="en-US" sz="1200" spc="-1" strike="noStrike">
                <a:solidFill>
                  <a:srgbClr val="928b8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Aalto_EN_Electr-Eng_13_RGB_2"/>
          <p:cNvPicPr/>
          <p:nvPr/>
        </p:nvPicPr>
        <p:blipFill>
          <a:blip r:embed="rId2"/>
          <a:stretch/>
        </p:blipFill>
        <p:spPr>
          <a:xfrm>
            <a:off x="216000" y="5815080"/>
            <a:ext cx="2519280" cy="1042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406440" y="406440"/>
            <a:ext cx="8326440" cy="547200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6"/>
          </p:nvPr>
        </p:nvSpPr>
        <p:spPr>
          <a:xfrm>
            <a:off x="3430080" y="627552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05A1-0474-43B0-82CA-036F0C128AAB}" type="datetime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7"/>
          </p:nvPr>
        </p:nvSpPr>
        <p:spPr>
          <a:xfrm>
            <a:off x="3430080" y="614520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8"/>
          </p:nvPr>
        </p:nvSpPr>
        <p:spPr>
          <a:xfrm>
            <a:off x="3430080" y="640080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E532-A1B2-4907-BC74-B78BC5BB0EF6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3120" y="1771560"/>
            <a:ext cx="777240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EC-E7830 Value Network Design for Internet - VNC</a:t>
            </a:r>
            <a:br>
              <a:rPr sz="3600"/>
            </a:br>
            <a:endParaRPr b="1" lang="en-US" sz="36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73120" y="3143160"/>
            <a:ext cx="628488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ase Last Mile </a:t>
            </a:r>
            <a:r>
              <a:rPr b="0" lang="mr-IN" sz="2400" spc="-1" strike="noStrike">
                <a:solidFill>
                  <a:srgbClr val="ffffff"/>
                </a:solidFill>
                <a:latin typeface="Georgia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Abloy Intelligent 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arwa Al Jub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cha Kha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nnukka Karpp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Jukka Mäk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834840"/>
            <a:ext cx="39988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7900"/>
                </a:solidFill>
                <a:latin typeface="Arial"/>
              </a:rPr>
              <a:t>Separated</a:t>
            </a:r>
            <a:br>
              <a:rPr sz="3200"/>
            </a:br>
            <a:r>
              <a:rPr b="0" lang="fi-FI" sz="3200" spc="-1" strike="noStrike">
                <a:solidFill>
                  <a:srgbClr val="ff7900"/>
                </a:solidFill>
                <a:latin typeface="Arial"/>
              </a:rPr>
              <a:t>Companies</a:t>
            </a:r>
            <a:br>
              <a:rPr sz="3200"/>
            </a:br>
            <a:r>
              <a:rPr b="0" lang="fi-FI" sz="3200" spc="-1" strike="noStrike">
                <a:solidFill>
                  <a:srgbClr val="ff7900"/>
                </a:solidFill>
                <a:latin typeface="Arial"/>
              </a:rPr>
              <a:t>Drive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1"/>
          <a:stretch/>
        </p:blipFill>
        <p:spPr>
          <a:xfrm>
            <a:off x="2247840" y="333360"/>
            <a:ext cx="664524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65200" y="24919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Any Questions?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13160" y="3382920"/>
            <a:ext cx="2292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95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928b81"/>
                </a:solidFill>
                <a:latin typeface="Arial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VNC components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73120" y="1341360"/>
            <a:ext cx="79884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Delivery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Lock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End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Venue owner (shopping centre or hou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Deliver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Box / central system manufacturer (locking compan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Internet Connection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000000"/>
                </a:solidFill>
                <a:latin typeface="Arial"/>
              </a:rPr>
              <a:t>Technical compon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Lock / box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Central platform, inclu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Arial"/>
              </a:rPr>
              <a:t>User / mailbox datab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Arial"/>
              </a:rPr>
              <a:t>API’s for additional ser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Connectivity over public network, wired or wireless if not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User software / device: computer or mobile 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Delivery compan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Package Delivery Last Mile Problem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73120" y="1341360"/>
            <a:ext cx="79884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o solve the problem that only 1/3 of the packet deliveries success to reach the customer at the first t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ctric locking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Kuva 1" descr=""/>
          <p:cNvPicPr/>
          <p:nvPr/>
        </p:nvPicPr>
        <p:blipFill>
          <a:blip r:embed="rId1"/>
          <a:stretch/>
        </p:blipFill>
        <p:spPr>
          <a:xfrm>
            <a:off x="6300720" y="2565360"/>
            <a:ext cx="15400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Technological Architecture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2487600" y="1158840"/>
            <a:ext cx="42386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Key uncertainties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1. Will the demand be in key role affecting the scale of the busine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2. Are the lock manufacturers and delivery companies going to co-operate to form the serv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3. 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l social interactions become (e.g. neighbors) a part of receiving parcel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4. Are the users going to accept the new servic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5. Will the people find the intelligent locking secure enoug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6. Will the intelligent locking be a part of smart home or against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3120" y="2599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Scenarios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780000" y="765000"/>
            <a:ext cx="5040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95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928b81"/>
                </a:solidFill>
                <a:latin typeface="Arial"/>
              </a:rPr>
              <a:t>Co-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yöristetty suorakulmio 9"/>
          <p:cNvSpPr/>
          <p:nvPr/>
        </p:nvSpPr>
        <p:spPr>
          <a:xfrm>
            <a:off x="1619280" y="1341360"/>
            <a:ext cx="2736720" cy="2117880"/>
          </a:xfrm>
          <a:prstGeom prst="roundRect">
            <a:avLst>
              <a:gd name="adj" fmla="val 16667"/>
            </a:avLst>
          </a:prstGeom>
          <a:solidFill>
            <a:srgbClr val="009b3a"/>
          </a:solidFill>
          <a:ln w="25560">
            <a:solidFill>
              <a:srgbClr val="007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  <a:ea typeface="Arial"/>
              </a:rPr>
              <a:t>SA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  <a:ea typeface="Arial"/>
              </a:rPr>
              <a:t>Access to platform sold as SaaS for delivery company, box systems spread all over to lobb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yöristetty suorakulmio 10"/>
          <p:cNvSpPr/>
          <p:nvPr/>
        </p:nvSpPr>
        <p:spPr>
          <a:xfrm>
            <a:off x="1619280" y="3564000"/>
            <a:ext cx="2736720" cy="1881000"/>
          </a:xfrm>
          <a:prstGeom prst="roundRect">
            <a:avLst>
              <a:gd name="adj" fmla="val 16667"/>
            </a:avLst>
          </a:prstGeom>
          <a:solidFill>
            <a:srgbClr val="009b3a"/>
          </a:solidFill>
          <a:ln w="25560">
            <a:solidFill>
              <a:srgbClr val="007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LOW INTERE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SaaS sold also, box systems only mainly in shopping cen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yöristetty suorakulmio 11"/>
          <p:cNvSpPr/>
          <p:nvPr/>
        </p:nvSpPr>
        <p:spPr>
          <a:xfrm>
            <a:off x="4573440" y="3564000"/>
            <a:ext cx="2735280" cy="1881000"/>
          </a:xfrm>
          <a:prstGeom prst="roundRect">
            <a:avLst>
              <a:gd name="adj" fmla="val 16667"/>
            </a:avLst>
          </a:prstGeom>
          <a:solidFill>
            <a:srgbClr val="009b3a"/>
          </a:solidFill>
          <a:ln w="25560">
            <a:solidFill>
              <a:srgbClr val="007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SAME 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No future for th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yöristetty suorakulmio 12"/>
          <p:cNvSpPr/>
          <p:nvPr/>
        </p:nvSpPr>
        <p:spPr>
          <a:xfrm>
            <a:off x="4573440" y="1341360"/>
            <a:ext cx="2735280" cy="2098800"/>
          </a:xfrm>
          <a:prstGeom prst="roundRect">
            <a:avLst>
              <a:gd name="adj" fmla="val 16667"/>
            </a:avLst>
          </a:prstGeom>
          <a:solidFill>
            <a:srgbClr val="009b3a"/>
          </a:solidFill>
          <a:ln w="25560">
            <a:solidFill>
              <a:srgbClr val="007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COMPET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Someone will act! Hard competition, many alternativ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kstin paikkamerkki 4"/>
          <p:cNvSpPr/>
          <p:nvPr/>
        </p:nvSpPr>
        <p:spPr>
          <a:xfrm rot="16200000">
            <a:off x="-1114920" y="1878120"/>
            <a:ext cx="34210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9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928b81"/>
                </a:solidFill>
                <a:latin typeface="Arial"/>
                <a:ea typeface="Arial"/>
              </a:rPr>
              <a:t>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0160" y="5444640"/>
            <a:ext cx="15382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95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928b81"/>
                </a:solidFill>
                <a:latin typeface="Arial"/>
              </a:rPr>
              <a:t>Competition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95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95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928b81"/>
                </a:solidFill>
                <a:latin typeface="Arial"/>
              </a:rPr>
              <a:t>No collab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95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kstin paikkamerkki 4"/>
          <p:cNvSpPr/>
          <p:nvPr/>
        </p:nvSpPr>
        <p:spPr>
          <a:xfrm>
            <a:off x="946080" y="2139840"/>
            <a:ext cx="457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9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928b81"/>
                </a:solidFill>
                <a:latin typeface="Arial"/>
                <a:ea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kstin paikkamerkki 4"/>
          <p:cNvSpPr/>
          <p:nvPr/>
        </p:nvSpPr>
        <p:spPr>
          <a:xfrm>
            <a:off x="1027080" y="4365720"/>
            <a:ext cx="5317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9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928b81"/>
                </a:solidFill>
                <a:latin typeface="Arial"/>
                <a:ea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kstin paikkamerkki 4"/>
          <p:cNvSpPr/>
          <p:nvPr/>
        </p:nvSpPr>
        <p:spPr>
          <a:xfrm>
            <a:off x="2674800" y="981000"/>
            <a:ext cx="457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9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928b81"/>
                </a:solidFill>
                <a:latin typeface="Arial"/>
                <a:ea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kstin paikkamerkki 4"/>
          <p:cNvSpPr/>
          <p:nvPr/>
        </p:nvSpPr>
        <p:spPr>
          <a:xfrm>
            <a:off x="5913360" y="10270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9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928b81"/>
                </a:solidFill>
                <a:latin typeface="Arial"/>
                <a:ea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28465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7900"/>
                </a:solidFill>
                <a:latin typeface="Arial"/>
              </a:rPr>
              <a:t>Locking Company Drive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324000" y="3906720"/>
            <a:ext cx="2085840" cy="1322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427356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28465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7900"/>
                </a:solidFill>
                <a:latin typeface="Arial"/>
              </a:rPr>
              <a:t>Locking Company Drive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pic>
        <p:nvPicPr>
          <p:cNvPr id="205" name="Content Placeholder 6" descr=""/>
          <p:cNvPicPr/>
          <p:nvPr/>
        </p:nvPicPr>
        <p:blipFill>
          <a:blip r:embed="rId1"/>
          <a:stretch/>
        </p:blipFill>
        <p:spPr>
          <a:xfrm>
            <a:off x="1476360" y="404640"/>
            <a:ext cx="7488360" cy="5224680"/>
          </a:xfrm>
          <a:prstGeom prst="rect">
            <a:avLst/>
          </a:prstGeom>
          <a:ln w="0">
            <a:noFill/>
          </a:ln>
        </p:spPr>
      </p:pic>
      <p:sp>
        <p:nvSpPr>
          <p:cNvPr id="206" name="TextBox 7"/>
          <p:cNvSpPr/>
          <p:nvPr/>
        </p:nvSpPr>
        <p:spPr>
          <a:xfrm>
            <a:off x="108000" y="44496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nue Ownership change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28465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7900"/>
                </a:solidFill>
                <a:latin typeface="Arial"/>
              </a:rPr>
              <a:t>Delivery Company Drive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2092320" y="193680"/>
            <a:ext cx="680076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259920"/>
            <a:ext cx="39988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7900"/>
                </a:solidFill>
                <a:latin typeface="Arial"/>
              </a:rPr>
              <a:t>Integrated Company Driven (Competition)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673280" y="765000"/>
            <a:ext cx="718812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4:12:18Z</dcterms:created>
  <dc:creator>jokariko</dc:creator>
  <dc:description/>
  <dc:language>en-US</dc:language>
  <cp:lastModifiedBy>J M</cp:lastModifiedBy>
  <dcterms:modified xsi:type="dcterms:W3CDTF">2017-02-20T14:59:38Z</dcterms:modified>
  <cp:revision>86</cp:revision>
  <dc:subject/>
  <dc:title>S-38.3046 Value Network Design for Inter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vTieturiVerId">
    <vt:lpwstr>002</vt:lpwstr>
  </property>
</Properties>
</file>