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8206-8A8A-4A45-A6E5-ACB02D29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A295-C1B6-42B8-AE49-EFE6BAF5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3154-32F8-4633-B53D-8FE654A7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024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7168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024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9015-46F2-40E0-AA51-CBB757C4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1680" y="488880"/>
            <a:ext cx="7983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C8CD-12A0-4069-B7C8-F8BAFB66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096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024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7168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096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024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D871F1-DD2E-4BEE-9DD6-21AE31CE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F7BD9B-F63C-4C99-885D-4115A9B1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9FF992-D27D-4DFD-9080-BFD9090D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4EF219-A553-4913-93CF-0498F885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8D9F5B-D8FE-4576-80BE-6E5A6764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35F1-E620-4041-9354-85963415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71680" y="488880"/>
            <a:ext cx="7983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3CDF8E-F8F4-480B-9125-5DB0A806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E6D97A-360D-4818-B706-5EDD3F66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37565B-A906-4B58-BD3A-39CDDB82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D766D0-0BBE-4029-A673-25E59887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E4815B-3EA7-4575-B55F-F764269C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A3587E-A389-4986-99A5-6A40D563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7096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024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7168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7096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024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F98105-FE1D-4CC1-AFA2-BC702EAA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0932-D643-4048-BDA4-5E60C77F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71680" y="488880"/>
            <a:ext cx="7983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7096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7024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7168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7096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7024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42FF45-CC40-496F-A8D6-19EA6275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A87-996B-4DC5-9FC7-9057FEE6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010220-A39A-4452-BBC2-3624DF1B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B5C598-99E2-41E4-A24C-5E775D19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4BA910-07DF-4083-81BF-792B6683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B1C245-6669-4F5C-B67E-8A3305E0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571680" y="488880"/>
            <a:ext cx="7983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07C410-D5E3-4265-93DD-29CA2DC5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E687E9-ED7B-4672-A22F-49E71942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90618E-3D73-4017-93AC-A80AC30A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DED5C6-13C2-4F26-AE3B-DC5599BC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4E96AC-407E-43CF-B8B3-DE469CB5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CBD249-D7FA-4026-966C-7E96763B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1680" y="488880"/>
            <a:ext cx="7983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9E44-D3B0-4F9D-9698-51F9073F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7096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7024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7168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7096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7024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CA475-EA9F-49F9-91AD-3531BC30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4DB319-61E6-4303-9703-81607084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854DA-D2BC-42AC-8C68-BA2BDF81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50E47D-2F7A-4FC4-8A76-D989B48A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1E42F-0C14-4D81-B329-E86CC95E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119753-886D-4708-943D-63A6EBD5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71680" y="488880"/>
            <a:ext cx="798336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C7830D-4EC9-4799-A716-B68C6EB9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03D13F-7383-4092-837C-4034C1F2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A012BE-13E2-4114-9E0F-23168788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86911-7C92-4743-A2EA-F7B81D10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2482-0DCB-42A9-8168-1B98D7D0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DAD82-2815-4BF3-9875-6B6B84E5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2C9537-D990-43EC-BA8D-19383575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7096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70240" y="158220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7168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7096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70240" y="3741480"/>
            <a:ext cx="257040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8FC573-920A-4CA3-9DBE-7020E27D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2360" y="374148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92A-3173-4388-8038-3BDB0505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168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2360" y="1582200"/>
            <a:ext cx="38955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1680" y="3741480"/>
            <a:ext cx="7983360" cy="19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78D5-B582-48B1-BCEA-1E9BDDB4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9000" y="6272280"/>
            <a:ext cx="1542960" cy="2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6141600"/>
            <a:ext cx="1542960" cy="2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9000" y="6397200"/>
            <a:ext cx="1542960" cy="2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27DD09-5BEF-4F48-8FC5-9D21A364F9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71680" y="5811840"/>
            <a:ext cx="7984800" cy="65160"/>
          </a:xfrm>
          <a:prstGeom prst="rect">
            <a:avLst/>
          </a:prstGeom>
          <a:solidFill>
            <a:srgbClr val="009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06440" y="1712880"/>
            <a:ext cx="8324640" cy="3919680"/>
          </a:xfrm>
          <a:prstGeom prst="rect">
            <a:avLst/>
          </a:prstGeom>
          <a:solidFill>
            <a:srgbClr val="009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680" y="1769760"/>
            <a:ext cx="77673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860200" y="5959080"/>
            <a:ext cx="202428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928b8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0760" cy="1630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3429000" y="627192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3429000" y="614160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3429000" y="639720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7D2CE-20CF-4B6D-9789-94AE0CB2854E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71680" y="5811840"/>
            <a:ext cx="7984800" cy="65160"/>
          </a:xfrm>
          <a:prstGeom prst="rect">
            <a:avLst/>
          </a:prstGeom>
          <a:solidFill>
            <a:srgbClr val="009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680" y="1769760"/>
            <a:ext cx="77673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8"/>
          </p:nvPr>
        </p:nvSpPr>
        <p:spPr>
          <a:xfrm>
            <a:off x="2860200" y="5959080"/>
            <a:ext cx="202428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928b81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928b8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0760" cy="16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1680" y="488880"/>
            <a:ext cx="79833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571680" y="1582200"/>
            <a:ext cx="79833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9"/>
          </p:nvPr>
        </p:nvSpPr>
        <p:spPr>
          <a:xfrm>
            <a:off x="3429000" y="627192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0"/>
          </p:nvPr>
        </p:nvSpPr>
        <p:spPr>
          <a:xfrm>
            <a:off x="3429000" y="614160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1"/>
          </p:nvPr>
        </p:nvSpPr>
        <p:spPr>
          <a:xfrm>
            <a:off x="3429000" y="639720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1FB0F-1752-4E42-9054-139F59CE5494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1680" y="5811840"/>
            <a:ext cx="7984800" cy="65160"/>
          </a:xfrm>
          <a:prstGeom prst="rect">
            <a:avLst/>
          </a:prstGeom>
          <a:solidFill>
            <a:srgbClr val="009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06440" y="406440"/>
            <a:ext cx="8324640" cy="5470560"/>
          </a:xfrm>
          <a:prstGeom prst="rect">
            <a:avLst/>
          </a:prstGeom>
          <a:solidFill>
            <a:srgbClr val="009b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1680" y="545760"/>
            <a:ext cx="7767360" cy="22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5959440"/>
            <a:ext cx="2693880" cy="8985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 type="dt" idx="12"/>
          </p:nvPr>
        </p:nvSpPr>
        <p:spPr>
          <a:xfrm>
            <a:off x="3429000" y="627192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13"/>
          </p:nvPr>
        </p:nvSpPr>
        <p:spPr>
          <a:xfrm>
            <a:off x="3429000" y="614160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4"/>
          </p:nvPr>
        </p:nvSpPr>
        <p:spPr>
          <a:xfrm>
            <a:off x="3429000" y="6397200"/>
            <a:ext cx="1542960" cy="1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1622E-4050-4976-97F1-E2A2F46C154F}" type="slidenum">
              <a:rPr b="1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1320" y="1769760"/>
            <a:ext cx="77691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llipohjan käyttöohje (2003)</a:t>
            </a:r>
            <a:endParaRPr b="1" lang="en-US" sz="40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571320" y="3139560"/>
            <a:ext cx="628308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alto-yliopist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Kauppakorkeakoulu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eknillinen korkeakoulu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aideteollinen korkeakoulu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Mallin valinta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alleja on jokaiselle korkeakoululle suomeksi, ruotsiksi ja englanniksi (paitsi Kauppakorkeakoululle vain suomeksi ja englannik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ataa malli materiaalipankista ja tallenna se omalle koneelle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Kaksoisnapsauta mallia, jolloin aukeaa uusi esitys, ja aloita kirjoittami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C47B-F422-45DD-8C4B-62C636B746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Uuden dian luominen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o uusi dia käyttäen </a:t>
            </a:r>
            <a:br>
              <a:rPr sz="2400"/>
            </a:b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New Slide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-painiket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Valitse dialle rakenne</a:t>
            </a:r>
            <a:br>
              <a:rPr sz="2400"/>
            </a:b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Slide Layout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 -tehtäväruud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940360" y="981000"/>
            <a:ext cx="182880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7D95-5527-4D58-ACFC-92C1D4F57C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fi-FI" sz="3200" spc="-1" strike="noStrike">
                <a:solidFill>
                  <a:srgbClr val="009b3a"/>
                </a:solidFill>
                <a:latin typeface="Arial"/>
              </a:rPr>
              <a:t>Luettelotekstidia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79848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uetteloteksteissä on viisi tas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s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Taso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as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aso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aso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Tasoa voit vaihtaa käyttämällä PowerPointin Decrease Indent- ja Increase Indent -painikkeita (1). Tai tabulaattorinäppäintä ja SHIFT+tabulaattorinäppäintä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571920" y="2421000"/>
            <a:ext cx="4786200" cy="1131840"/>
            <a:chOff x="3571920" y="2421000"/>
            <a:chExt cx="4786200" cy="1131840"/>
          </a:xfrm>
        </p:grpSpPr>
        <p:pic>
          <p:nvPicPr>
            <p:cNvPr id="262" name="" descr=""/>
            <p:cNvPicPr/>
            <p:nvPr/>
          </p:nvPicPr>
          <p:blipFill>
            <a:blip r:embed="rId1"/>
            <a:stretch/>
          </p:blipFill>
          <p:spPr>
            <a:xfrm>
              <a:off x="3571920" y="2421000"/>
              <a:ext cx="4786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7338960" y="318456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41B-6AC3-4AF5-A041-B7AD1790AF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320" y="545760"/>
            <a:ext cx="776916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äliotsikkodia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71320" y="2852640"/>
            <a:ext cx="628308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Esityksessä on kolme erilaista otsikkodiaa. Katso erilaisen otsikkodian lisäysohje seuraavalta sivulta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9B936-A385-4B9F-B8A7-BAF476FF5D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Erilaisen otsikkodian lisäys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71680" y="1196640"/>
            <a:ext cx="5008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Lisää uusi dia napsauttamalla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New Slide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-painiket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Vaihda dian rakenteeksi Title Slide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Vaihda näkyville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Slide Design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-tehtäväruutu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Tehtäväruudussa kohdassa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Used in This Presentation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näkyy pikkukuvakkeina esityksessä käytettävissä olevat templatet (master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Kun viet hiiren templaten päälle, näkyy templaten nimi keltaisessa vihjelapus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vaihtoehdot ovat aalto, white title ja sub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pikkukuvan oikeassa reunassa näkyy alaspäin osoittava väkä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Napsauta pikkukuvan oikeassa reunassa olevaa väkästä ja valitse 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Apply to Selected Slides</a:t>
            </a: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Huom. Mikäli vain napsautat Slide Design -tehtäväruudussa  näkyvää pikkukuvaa, tulee siinä oleva master käyttöön koko esityks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508720" y="1154160"/>
            <a:ext cx="1584360" cy="119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508720" y="2451240"/>
            <a:ext cx="1603440" cy="18730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5508720" y="4538520"/>
            <a:ext cx="1584360" cy="119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7380360" y="333360"/>
            <a:ext cx="1220760" cy="19764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7380360" y="2421000"/>
            <a:ext cx="1466640" cy="1809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7380360" y="4365720"/>
            <a:ext cx="1763640" cy="1326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071040" y="29750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013960" y="15764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87040" y="38084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27800" y="2954160"/>
            <a:ext cx="936360" cy="576360"/>
          </a:xfrm>
          <a:prstGeom prst="rect">
            <a:avLst/>
          </a:prstGeom>
          <a:noFill/>
          <a:ln w="28440">
            <a:solidFill>
              <a:srgbClr val="ed2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80360" y="1628640"/>
            <a:ext cx="1079280" cy="287640"/>
          </a:xfrm>
          <a:prstGeom prst="rect">
            <a:avLst/>
          </a:prstGeom>
          <a:noFill/>
          <a:ln w="28440">
            <a:solidFill>
              <a:srgbClr val="ed2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51640" y="3789360"/>
            <a:ext cx="1081080" cy="503280"/>
          </a:xfrm>
          <a:prstGeom prst="rect">
            <a:avLst/>
          </a:prstGeom>
          <a:noFill/>
          <a:ln w="28440">
            <a:solidFill>
              <a:srgbClr val="ed2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68" idx="1"/>
            <a:endCxn id="269" idx="1"/>
          </p:cNvCxnSpPr>
          <p:nvPr/>
        </p:nvCxnSpPr>
        <p:spPr>
          <a:xfrm>
            <a:off x="5508720" y="115920"/>
            <a:ext cx="2160" cy="1637280"/>
          </a:xfrm>
          <a:prstGeom prst="curvedConnector5">
            <a:avLst>
              <a:gd name="adj1" fmla="val 40000"/>
              <a:gd name="adj2" fmla="val 49989"/>
              <a:gd name="adj3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69" idx="1"/>
            <a:endCxn id="270" idx="1"/>
          </p:cNvCxnSpPr>
          <p:nvPr/>
        </p:nvCxnSpPr>
        <p:spPr>
          <a:xfrm>
            <a:off x="5508720" y="1638000"/>
            <a:ext cx="2160" cy="1749960"/>
          </a:xfrm>
          <a:prstGeom prst="curvedConnector5">
            <a:avLst>
              <a:gd name="adj1" fmla="val 40000"/>
              <a:gd name="adj2" fmla="val 50000"/>
              <a:gd name="adj3" fmla="val 4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0" idx="3"/>
            <a:endCxn id="278" idx="1"/>
          </p:cNvCxnSpPr>
          <p:nvPr/>
        </p:nvCxnSpPr>
        <p:spPr>
          <a:xfrm flipV="1">
            <a:off x="7093080" y="1771200"/>
            <a:ext cx="288000" cy="3364560"/>
          </a:xfrm>
          <a:prstGeom prst="curvedConnector5">
            <a:avLst>
              <a:gd name="adj1" fmla="val 49937"/>
              <a:gd name="adj2" fmla="val 49994"/>
              <a:gd name="adj3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8" idx="3"/>
            <a:endCxn id="272" idx="3"/>
          </p:cNvCxnSpPr>
          <p:nvPr/>
        </p:nvCxnSpPr>
        <p:spPr>
          <a:xfrm>
            <a:off x="8459640" y="1771200"/>
            <a:ext cx="388080" cy="1554840"/>
          </a:xfrm>
          <a:prstGeom prst="curvedConnector5">
            <a:avLst>
              <a:gd name="adj1" fmla="val 49953"/>
              <a:gd name="adj2" fmla="val 50000"/>
              <a:gd name="adj3" fmla="val 49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2" idx="3"/>
            <a:endCxn id="273" idx="0"/>
          </p:cNvCxnSpPr>
          <p:nvPr/>
        </p:nvCxnSpPr>
        <p:spPr>
          <a:xfrm flipV="1" rot="10800000">
            <a:off x="8260560" y="3325320"/>
            <a:ext cx="585000" cy="10407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CAF9-94CF-4FA8-95ED-2312B879DF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Alatunnisteen tiedo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9160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Alatunnisteen tietoja pääset vaihtamaan valitsemalla </a:t>
            </a: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View - Header and Footer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Otsikkosivulla näytetään vain päivämäärä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640400" y="1628640"/>
            <a:ext cx="3916080" cy="296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E03-FCEB-4B96-82A1-772B17E16E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680" y="488520"/>
            <a:ext cx="79848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9b3a"/>
                </a:solidFill>
                <a:latin typeface="Arial"/>
              </a:rPr>
              <a:t>Esityksen värit</a:t>
            </a:r>
            <a:endParaRPr b="1" lang="en-US" sz="3200" spc="-1" strike="noStrike">
              <a:solidFill>
                <a:srgbClr val="009b3a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71680" y="1582560"/>
            <a:ext cx="391608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tyksen väreiksi on määritelty Aalto yliopiston ja korkeakoulujen graafisen ohjeistuksen vär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ääritykset vaikuttavat esimerkiksi kaavioiden ja itse piirrettyjen kuvioiden väreih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640400" y="1582560"/>
          <a:ext cx="3914640" cy="41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0400" y="1582560"/>
                    <a:ext cx="391464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971640" y="4869000"/>
            <a:ext cx="1944720" cy="647640"/>
          </a:xfrm>
          <a:prstGeom prst="rect">
            <a:avLst/>
          </a:prstGeom>
          <a:solidFill>
            <a:srgbClr val="009b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llipohjien käyttöoh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73E-0044-4E8A-A0D7-0B707E4117C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5/201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1:43:08Z</dcterms:created>
  <dc:creator/>
  <dc:description/>
  <dc:language>en-US</dc:language>
  <cp:lastModifiedBy>Tieturi</cp:lastModifiedBy>
  <dcterms:modified xsi:type="dcterms:W3CDTF">2010-02-15T13:17:11Z</dcterms:modified>
  <cp:revision>9</cp:revision>
  <dc:subject/>
  <dc:title>Mallipohjan käyttöoh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vTieturiVerId">
    <vt:lpwstr>003</vt:lpwstr>
  </property>
</Properties>
</file>