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368-0AC9-45B6-B871-26467CC1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D1E-5B4B-45F4-BC13-D5EADB6B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F43-A21A-4759-95E2-990203FB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213-D4A6-44DD-8867-E6EFFF17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735-99E4-4EE4-8BB7-DADE4225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B9621-2577-4F04-B0C5-7DC95A24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93583-B02E-4BB9-A215-02F0C0B9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5F21DC-BD30-4014-95ED-561DDED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BE16E7-29D5-4A87-B34D-E7099A02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060D9-6D84-4A48-B2B9-9628CCA9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449-FE99-4300-AD6B-F728958A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7BF0F-FAB3-4851-A992-79034AA5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562C6-BDB5-46C2-A5A1-D6B8CC0C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E4FD60-4C17-436E-A5DC-4ABBDEC0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0A3A6-ECEF-43B5-81A6-0A778038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5A0EA3-A6C9-4A73-8079-F2394717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C74A1-DC90-4175-8ACE-789772CC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9CACA3-0528-479F-B571-BA4D73BD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D37-7260-4D29-9D1E-20EA3A18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E5A28D-AD79-4C60-951F-2008C8EA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440-E10F-4B8E-AC69-7F7AD53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3C4E29-507E-4854-9914-CB064DC0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93EA3-7050-4770-9B0F-59B1DDB6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E1DEE-4800-409C-B07C-59DE19DF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16ABB-49F7-4E52-BC2B-F2D5C656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60B7A-AC7A-4983-B8F6-19BFAD91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1B1B7-7074-46DF-8E67-5260819C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36F56-B7EF-4269-8827-40D64853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361D6-E53B-48AE-8323-A6466F48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F635D-B00F-4BCE-ADB3-E2FE4B57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95A64-46B9-46AB-BD1F-5CCF892C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24B3-D6C3-42F9-A129-27CC104D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5046A-C33E-4D0C-A452-858E2C61B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AFFD4-9378-454B-8F2C-EDDA6B67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20536-E17B-4272-BCD2-EE826B12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633C95-9047-4220-8E8D-F8AE458B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F402DE-253C-4C26-B058-4060B1BA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0C0EAF-5E8C-47DC-80E6-5FF2F06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680" y="488520"/>
            <a:ext cx="79848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06EA0-0100-4DEC-9E33-C9765D1F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85A182-6EFC-4B57-A9B2-DDC2258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AF6D9-F846-438C-B786-AF0090D9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6CBEA-1FE8-4ADF-BF3B-C758D7FB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172-6AB8-4745-BE79-6E85108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61C9FF-4CAF-418E-B0EE-4F49D1FF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510B9-3066-4D44-ADBB-A0A7C9DC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7132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960" y="158256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68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7132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960" y="3742920"/>
            <a:ext cx="257076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7F83EE-096B-4A69-A411-4A336FB5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374292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1CA8-4891-4157-813C-06225A9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1582560"/>
            <a:ext cx="389628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680" y="3742920"/>
            <a:ext cx="798480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219F-F90B-4E05-B938-DB724AA8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E650-552C-4FB1-8EDA-613A998E2E8B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440" y="1712880"/>
            <a:ext cx="8324640" cy="391968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860200" y="5959440"/>
            <a:ext cx="2025720" cy="1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BD65-333C-495E-97B1-DDEEC66ACED7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2860200" y="5959440"/>
            <a:ext cx="2025720" cy="1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4E81-B6E6-46E5-AE98-D76856227ED1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6440" y="406440"/>
            <a:ext cx="8324640" cy="54705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2"/>
          </p:nvPr>
        </p:nvSpPr>
        <p:spPr>
          <a:xfrm>
            <a:off x="3428640" y="6272280"/>
            <a:ext cx="1544760" cy="1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3"/>
          </p:nvPr>
        </p:nvSpPr>
        <p:spPr>
          <a:xfrm>
            <a:off x="3428640" y="61416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4"/>
          </p:nvPr>
        </p:nvSpPr>
        <p:spPr>
          <a:xfrm>
            <a:off x="3428640" y="6397200"/>
            <a:ext cx="1544760" cy="1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3382-ED40-4784-B30A-8147BC2E3D70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571320" y="314172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alto Universit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Economic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Science and Technology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chool of Art and Desig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571320" y="1770120"/>
            <a:ext cx="776916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emplate user guide (200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emplate selec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emplates for each school in Finnish, Swedish, and English (templates for School of Economics are only in Finnish and Engli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the template from Visual Identity Downloads and save it on your own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-click a template. This initiates a new presentation, and you can start ty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5CF-07BE-411F-993C-57FBCC31D1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reating a new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slide by using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layout from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 Lay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ask P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12000" y="981000"/>
            <a:ext cx="1847880" cy="45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FD7-FE1A-413C-A615-A08F046C7B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Title and text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 have five indentatio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can be changed by using PowerPoint's Decrease Indent and Increase Indent buttons (1). Also, the TAB key and Shift+TAB combination can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480996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BE7-C729-4CE5-8631-3AE2F36077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titl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71320" y="285264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 presentation has three different title slides. To see how a different title slide is inserted, see the next page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B75940-5F3B-4289-A06A-E7BAA9B58E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Inserting a different title slide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71320" y="1270080"/>
            <a:ext cx="457668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a new slide by clicking the New Slide but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the slide's layout to Title Slid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the Slide Design Task Pan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ask Pane's Used in This Presentation section displays thumbnails of the templates (master slides) that can be used in this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you move the mouse pointer on a template, a yellow tooltip shows its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lternatives are aalto, white title, and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he right of the thumbnail, there's a small arrow pointing down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he little arrow on the right edge of the thumbnail and select Apply to Selected Slide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If you just click the thumbnail itself, the slide master it refers to is applied to the entire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149800" y="404640"/>
            <a:ext cx="3886200" cy="538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B866D8-863D-4ECF-A957-B274D7FE07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Footer informa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ter information can be edited by selec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- Header and Foo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ate is displayed on the titl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3933720" cy="29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9652E-E3EE-4969-91A3-8ED8045D29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900"/>
                </a:solidFill>
                <a:latin typeface="Arial"/>
              </a:rPr>
              <a:t>Colors in a presentation</a:t>
            </a:r>
            <a:endParaRPr b="1" lang="en-US" sz="3200" spc="-1" strike="noStrike">
              <a:solidFill>
                <a:srgbClr val="ff79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s dictated by the graphics guidelines of Aalto University and its schools have been predefined as default colors for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efinitions have effect, for example, on the colors of charts and self-drawn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640400" y="1582560"/>
          <a:ext cx="3916080" cy="41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582560"/>
                    <a:ext cx="3916080" cy="41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900000" y="4869000"/>
            <a:ext cx="1971720" cy="67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Template user guid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74DF5E-3B07-42B3-8346-98CF444A75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>2/19/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1:37:19Z</dcterms:created>
  <dc:creator>Tieturi</dc:creator>
  <dc:description/>
  <dc:language>en-US</dc:language>
  <cp:lastModifiedBy>Tieturi</cp:lastModifiedBy>
  <dcterms:modified xsi:type="dcterms:W3CDTF">2010-02-19T12:26:10Z</dcterms:modified>
  <cp:revision>3</cp:revision>
  <dc:subject/>
  <dc:title>PowerPoint Template user guide (2003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1</vt:lpwstr>
  </property>
</Properties>
</file>